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49440" y="65160"/>
            <a:ext cx="7594560" cy="3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0" y="6630840"/>
            <a:ext cx="7391520" cy="12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80880" y="63360"/>
            <a:ext cx="10796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3360"/>
            <a:ext cx="304920" cy="400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 rot="10800000">
            <a:off x="8991360" y="6629400"/>
            <a:ext cx="152280" cy="123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227720" y="6613560"/>
            <a:ext cx="156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© 2001 DFKI GmbH    -</a:t>
            </a:r>
            <a:fld id="{27E68BC0-ECDA-4299-BF8E-1AE7F209CE78}" type="slidenum">
              <a:rPr b="1" lang="en-US" sz="7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km-logo" descr=""/>
          <p:cNvPicPr/>
          <p:nvPr/>
        </p:nvPicPr>
        <p:blipFill>
          <a:blip r:embed="rId3"/>
          <a:stretch/>
        </p:blipFill>
        <p:spPr>
          <a:xfrm>
            <a:off x="8567640" y="6561000"/>
            <a:ext cx="385920" cy="2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" name=""/>
          <p:cNvGraphicFramePr/>
          <p:nvPr/>
        </p:nvGraphicFramePr>
        <p:xfrm>
          <a:off x="247680" y="1438200"/>
          <a:ext cx="8896320" cy="1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1438200"/>
                    <a:ext cx="88963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9440" y="65160"/>
            <a:ext cx="7594560" cy="409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0" y="6630840"/>
            <a:ext cx="7391520" cy="122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63360"/>
            <a:ext cx="10796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2600" y="63360"/>
            <a:ext cx="317520" cy="409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39880" y="2743200"/>
          <a:ext cx="55627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9880" y="2743200"/>
                    <a:ext cx="5562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 flipV="1" rot="10800000">
            <a:off x="8991360" y="6629400"/>
            <a:ext cx="152280" cy="123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7720" y="6613560"/>
            <a:ext cx="156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© 2001 DFKI GmbH    -</a:t>
            </a:r>
            <a:fld id="{6A824FEB-DD78-453A-9B71-6E0A2A695751}" type="slidenum">
              <a:rPr b="1" lang="en-US" sz="7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km-logo" descr=""/>
          <p:cNvPicPr/>
          <p:nvPr/>
        </p:nvPicPr>
        <p:blipFill>
          <a:blip r:embed="rId5"/>
          <a:stretch/>
        </p:blipFill>
        <p:spPr>
          <a:xfrm>
            <a:off x="8567640" y="6561000"/>
            <a:ext cx="385920" cy="268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3816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sunysb.edu/~sbprolog/xsb-page.html" TargetMode="External"/><Relationship Id="rId2" Type="http://schemas.openxmlformats.org/officeDocument/2006/relationships/hyperlink" Target="http://www.cs.sunysb.edu/~sbprolog/xsb-page.html" TargetMode="External"/><Relationship Id="rId3" Type="http://schemas.openxmlformats.org/officeDocument/2006/relationships/hyperlink" Target="http://www.cs.sunysb.edu/~sbprolog/xsb-page.html" TargetMode="External"/><Relationship Id="rId4" Type="http://schemas.openxmlformats.org/officeDocument/2006/relationships/hyperlink" Target="http://www.cs.sunysb.edu/~sbprolog/xsb-page.html" TargetMode="External"/><Relationship Id="rId5" Type="http://schemas.openxmlformats.org/officeDocument/2006/relationships/hyperlink" Target="http://www.cs.sunysb.edu/~sbprolog/xsb-page.html" TargetMode="External"/><Relationship Id="rId6" Type="http://schemas.openxmlformats.org/officeDocument/2006/relationships/hyperlink" Target="http://www.cs.sunysb.edu/~sbprolog/xsb-page.html" TargetMode="External"/><Relationship Id="rId7" Type="http://schemas.openxmlformats.org/officeDocument/2006/relationships/hyperlink" Target="http://www.cs.sunysb.edu/~sbprolog/xsb-page.html" TargetMode="External"/><Relationship Id="rId8" Type="http://schemas.openxmlformats.org/officeDocument/2006/relationships/hyperlink" Target="http://www.cs.sunysb.edu/~sbprolog/xsb-page.html" TargetMode="External"/><Relationship Id="rId9" Type="http://schemas.openxmlformats.org/officeDocument/2006/relationships/hyperlink" Target="http://www.cs.sunysb.edu/~sbprolog/xsb-page.html" TargetMode="External"/><Relationship Id="rId10" Type="http://schemas.openxmlformats.org/officeDocument/2006/relationships/hyperlink" Target="http://www.cs.sunysb.edu/~sbprolog/xsb-page.html" TargetMode="External"/><Relationship Id="rId11" Type="http://schemas.openxmlformats.org/officeDocument/2006/relationships/hyperlink" Target="http://www.cs.sunysb.edu/~sbprolog/xsb-page.html" TargetMode="External"/><Relationship Id="rId12" Type="http://schemas.openxmlformats.org/officeDocument/2006/relationships/hyperlink" Target="http://www.dfki.uni-kl.de/~sintek/FloraTab/FloraTab.zip" TargetMode="External"/><Relationship Id="rId13" Type="http://schemas.openxmlformats.org/officeDocument/2006/relationships/hyperlink" Target="http://www.dfki.uni-kl.de/~sintek/FloraTab/FloraTab.zip" TargetMode="External"/><Relationship Id="rId14" Type="http://schemas.openxmlformats.org/officeDocument/2006/relationships/hyperlink" Target="http://www.dfki.uni-kl.de/~sintek/FloraTab/FloraTab.zip" TargetMode="External"/><Relationship Id="rId15" Type="http://schemas.openxmlformats.org/officeDocument/2006/relationships/hyperlink" Target="http://www.dfki.uni-kl.de/~sintek/FloraTab/FloraTab.zip" TargetMode="External"/><Relationship Id="rId16" Type="http://schemas.openxmlformats.org/officeDocument/2006/relationships/hyperlink" Target="http://www.dfki.uni-kl.de/~sintek/FloraTab/FloraTab.zip" TargetMode="External"/><Relationship Id="rId17" Type="http://schemas.openxmlformats.org/officeDocument/2006/relationships/hyperlink" Target="http://www.dfki.uni-kl.de/~sintek/FloraTab/FloraTab.zip" TargetMode="External"/><Relationship Id="rId18" Type="http://schemas.openxmlformats.org/officeDocument/2006/relationships/hyperlink" Target="http://www.dfki.uni-kl.de/~sintek/FloraTab/FloraTab.zip" TargetMode="External"/><Relationship Id="rId19" Type="http://schemas.openxmlformats.org/officeDocument/2006/relationships/hyperlink" Target="http://www.dfki.uni-kl.de/~sintek/FloraTab/FloraTab.zip" TargetMode="External"/><Relationship Id="rId20" Type="http://schemas.openxmlformats.org/officeDocument/2006/relationships/hyperlink" Target="http://www.dfki.uni-kl.de/~sintek/FloraTab/FloraTab.zip" TargetMode="External"/><Relationship Id="rId21" Type="http://schemas.openxmlformats.org/officeDocument/2006/relationships/hyperlink" Target="http://www.dfki.uni-kl.de/~sintek/FloraTab/FloraTab.zip" TargetMode="External"/><Relationship Id="rId22" Type="http://schemas.openxmlformats.org/officeDocument/2006/relationships/hyperlink" Target="http://www.dfki.uni-kl.de/~sintek/FloraTab/FloraTab.zip" TargetMode="External"/><Relationship Id="rId23" Type="http://schemas.openxmlformats.org/officeDocument/2006/relationships/hyperlink" Target="http://www.dfki.uni-kl.de/~sintek/FloraTab/FloraTab.zip" TargetMode="External"/><Relationship Id="rId24" Type="http://schemas.openxmlformats.org/officeDocument/2006/relationships/hyperlink" Target="http://www.dfki.uni-kl.de/~sintek/FloraTab/FloraTab.zip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Flora Query Ta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erying Protégé-200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F-Log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ichael Sint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intek@dfki.uni-kl.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ra Query Tab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lora is an XSB-based F-Logic (Frame Logic):</a:t>
            </a:r>
            <a:br>
              <a:rPr sz="2000"/>
            </a:b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"/>
              </a:rPr>
              <a:t>cs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sunysb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6"/>
              </a:rPr>
              <a:t>edu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8"/>
              </a:rPr>
              <a:t>sbprolog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0"/>
              </a:rPr>
              <a:t>xsb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1"/>
              </a:rPr>
              <a:t>-page.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égé knowledge base is exported as F-Logic program (including axiom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queries can now be executed in an XSB/Flora “sub-process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st of answers is shown in Protégé (if answers are instanc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also be used to model constraints (queries must/must not fail if knowledge base is consistent/inconsistent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iews can be defined in a powerful wa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wnload Flora Tab from:</a:t>
            </a:r>
            <a:br>
              <a:rPr sz="2000"/>
            </a:b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2"/>
              </a:rPr>
              <a:t>http://www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3"/>
              </a:rPr>
              <a:t>dfki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5"/>
              </a:rPr>
              <a:t>uni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6"/>
              </a:rPr>
              <a:t>-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7"/>
              </a:rPr>
              <a:t>kl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8"/>
              </a:rPr>
              <a:t>.de/~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9"/>
              </a:rPr>
              <a:t>sintek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0"/>
              </a:rPr>
              <a:t>/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1"/>
              </a:rPr>
              <a:t>FloraTab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3"/>
              </a:rPr>
              <a:t>FloraTab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24"/>
              </a:rPr>
              <a:t>.zi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mple Examp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" y="1190520"/>
            <a:ext cx="5873760" cy="538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98880" y="1542960"/>
            <a:ext cx="4069080" cy="183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29840" y="3624840"/>
            <a:ext cx="676800" cy="331560"/>
          </a:xfrm>
          <a:prstGeom prst="wedgeRoundRectCallout">
            <a:avLst>
              <a:gd name="adj1" fmla="val -108212"/>
              <a:gd name="adj2" fmla="val 50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9840" y="4982400"/>
            <a:ext cx="1577520" cy="331560"/>
          </a:xfrm>
          <a:prstGeom prst="wedgeRoundRectCallout">
            <a:avLst>
              <a:gd name="adj1" fmla="val -60879"/>
              <a:gd name="adj2" fmla="val 1767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ra inte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3720" y="4339440"/>
            <a:ext cx="764280" cy="331560"/>
          </a:xfrm>
          <a:prstGeom prst="wedgeRoundRectCallout">
            <a:avLst>
              <a:gd name="adj1" fmla="val -62189"/>
              <a:gd name="adj2" fmla="val 12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67320" y="4657680"/>
            <a:ext cx="2192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36680" y="4120200"/>
            <a:ext cx="1009440" cy="331560"/>
          </a:xfrm>
          <a:prstGeom prst="wedgeRoundRectCallout">
            <a:avLst>
              <a:gd name="adj1" fmla="val -64291"/>
              <a:gd name="adj2" fmla="val 110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ansformation of Protégé Classes and Instances Into F-Logic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212400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sses:</a:t>
            </a:r>
            <a:br>
              <a:rPr sz="24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Newspaper'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:THING'['Prototype'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Prototype_Newspaper'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'Contents'=&gt;&gt;'Content'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'Date'=&gt;string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number_of_pages=&gt;integer]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ances:</a:t>
            </a:r>
            <a:br>
              <a:rPr sz="24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ance_0008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Newspaper'['Contents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&gt;&gt;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{instance_00035,instance_..., ...}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'Prototype'-&gt;instance_00078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number_of_pages-&gt;148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'Date'-&gt;'08/23/97']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07440" y="1996200"/>
            <a:ext cx="1162440" cy="331560"/>
          </a:xfrm>
          <a:prstGeom prst="wedgeRoundRectCallout">
            <a:avLst>
              <a:gd name="adj1" fmla="val -54949"/>
              <a:gd name="adj2" fmla="val 12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clas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560" y="4072680"/>
            <a:ext cx="1177920" cy="331560"/>
          </a:xfrm>
          <a:prstGeom prst="wedgeRoundRectCallout">
            <a:avLst>
              <a:gd name="adj1" fmla="val -45967"/>
              <a:gd name="adj2" fmla="val 130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anc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54480" y="2005920"/>
            <a:ext cx="560160" cy="331560"/>
          </a:xfrm>
          <a:prstGeom prst="wedgeRoundRectCallout">
            <a:avLst>
              <a:gd name="adj1" fmla="val -65027"/>
              <a:gd name="adj2" fmla="val 1163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53680" y="4072680"/>
            <a:ext cx="752760" cy="331560"/>
          </a:xfrm>
          <a:prstGeom prst="wedgeRoundRectCallout">
            <a:avLst>
              <a:gd name="adj1" fmla="val -72416"/>
              <a:gd name="adj2" fmla="val 12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43560" y="3219120"/>
            <a:ext cx="2371680" cy="63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,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val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&gt;, -&gt;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val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81160"/>
            <a:ext cx="9144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ameters and Axiom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2880" y="1204920"/>
            <a:ext cx="7810560" cy="532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13960" y="2982240"/>
            <a:ext cx="805320" cy="331560"/>
          </a:xfrm>
          <a:prstGeom prst="wedgeRoundRectCallout">
            <a:avLst>
              <a:gd name="adj1" fmla="val -51652"/>
              <a:gd name="adj2" fmla="val 1278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26720" y="3020040"/>
            <a:ext cx="1072080" cy="331560"/>
          </a:xfrm>
          <a:prstGeom prst="wedgeRoundRectCallout">
            <a:avLst>
              <a:gd name="adj1" fmla="val -42282"/>
              <a:gd name="adj2" fmla="val 1250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076560"/>
            <a:ext cx="8190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81320" y="3790800"/>
            <a:ext cx="15336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81160"/>
            <a:ext cx="9144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iews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: Defini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6440" y="1206360"/>
            <a:ext cx="8153280" cy="529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599520" y="1437840"/>
            <a:ext cx="1608480" cy="791640"/>
          </a:xfrm>
          <a:prstGeom prst="wedgeRoundRectCallout">
            <a:avLst>
              <a:gd name="adj1" fmla="val -61074"/>
              <a:gd name="adj2" fmla="val 9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definition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spap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ir auth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181160"/>
            <a:ext cx="91440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iews: Resul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960" y="1352520"/>
            <a:ext cx="7677000" cy="501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11:06:03Z</dcterms:created>
  <dc:creator>Michael Sintek</dc:creator>
  <dc:description/>
  <dc:language>en-US</dc:language>
  <cp:lastModifiedBy>Michael Sintek</cp:lastModifiedBy>
  <cp:lastPrinted>2001-07-13T10:57:52Z</cp:lastPrinted>
  <dcterms:modified xsi:type="dcterms:W3CDTF">2001-07-24T15:33:44Z</dcterms:modified>
  <cp:revision>275</cp:revision>
  <dc:subject/>
  <dc:title>Protege Users' Meeting - Newcastle 20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dfki.uni-kl.de/~sintek/</vt:lpwstr>
  </property>
  <property fmtid="{D5CDD505-2E9C-101B-9397-08002B2CF9AE}" pid="9" name="LinkColor">
    <vt:r8>10485760</vt:r8>
  </property>
  <property fmtid="{D5CDD505-2E9C-101B-9397-08002B2CF9AE}" pid="10" name="MailAddress">
    <vt:lpwstr>sintek@dfki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4194368</vt:r8>
  </property>
</Properties>
</file>