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8013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5200" y="3627720"/>
            <a:ext cx="8013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36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5200" y="362772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360" y="362772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4560" y="151128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4280" y="151128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5200" y="362772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4560" y="362772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4280" y="362772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968-8859-4C1A-85CA-919EDFDB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200" y="1511280"/>
            <a:ext cx="80136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3D7-FC4C-41A1-A6EC-0915A47F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8013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5C9-2CD3-4113-86E0-82EE6103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39103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360" y="1511280"/>
            <a:ext cx="39103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889-0526-46B7-B1D5-5E9E64A0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A41-A307-43EE-8F9E-55CBCD62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128520"/>
            <a:ext cx="8778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591-F5F5-4CF7-8039-A773245B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360" y="1511280"/>
            <a:ext cx="39103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5200" y="362772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DED-DB97-48C5-B53A-E6878A7F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5200" y="1511280"/>
            <a:ext cx="80136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39103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36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360" y="362772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17E-E2E2-47E1-9392-4E26397B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36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5200" y="3627720"/>
            <a:ext cx="8013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3BB-BB58-42B0-94DF-48372C28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8013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5200" y="3627720"/>
            <a:ext cx="8013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0D7-6889-4023-8C84-EF190200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36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5200" y="362772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360" y="362772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408-0B64-4D4B-B9C1-A0522B95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4560" y="151128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4280" y="151128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5200" y="362772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4560" y="362772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4280" y="3627720"/>
            <a:ext cx="25801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B44-9A31-421B-B302-5AF6CDB2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8013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39103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360" y="1511280"/>
            <a:ext cx="39103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280" y="128520"/>
            <a:ext cx="8778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360" y="1511280"/>
            <a:ext cx="39103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5200" y="362772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39103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36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360" y="362772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360" y="1511280"/>
            <a:ext cx="39103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5200" y="3627720"/>
            <a:ext cx="8013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5200" y="1511280"/>
            <a:ext cx="8013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001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85840">
              <a:spcBef>
                <a:spcPts val="1001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28600">
              <a:spcBef>
                <a:spcPts val="1001"/>
              </a:spcBef>
              <a:spcAft>
                <a:spcPts val="249"/>
              </a:spcAft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001"/>
              </a:spcBef>
              <a:spcAft>
                <a:spcPts val="24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001"/>
              </a:spcBef>
              <a:spcAft>
                <a:spcPts val="24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001"/>
              </a:spcBef>
              <a:spcAft>
                <a:spcPts val="24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reflogo" descr=""/>
          <p:cNvPicPr/>
          <p:nvPr/>
        </p:nvPicPr>
        <p:blipFill>
          <a:blip r:embed="rId2"/>
          <a:stretch/>
        </p:blipFill>
        <p:spPr>
          <a:xfrm>
            <a:off x="4229280" y="6477120"/>
            <a:ext cx="685800" cy="279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28600" y="6364440"/>
            <a:ext cx="8686800" cy="0"/>
          </a:xfrm>
          <a:prstGeom prst="line">
            <a:avLst/>
          </a:prstGeom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1054080"/>
            <a:ext cx="8686800" cy="0"/>
          </a:xfrm>
          <a:prstGeom prst="line">
            <a:avLst/>
          </a:prstGeom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12040" y="6408000"/>
            <a:ext cx="88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S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72720" y="6408000"/>
            <a:ext cx="99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8ACC41E-F35A-470A-879E-0FF7EBF1BA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C40D-301B-469F-A452-C84A935F7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38160" algn="ctr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0340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An Approach to Context-driven Document Analysis and Understanding</a:t>
            </a:r>
            <a:br>
              <a:rPr sz="2500"/>
            </a:b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79640" y="3886200"/>
            <a:ext cx="6984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udia Wenzel, Heiko Ma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224000" y="2182680"/>
            <a:ext cx="6696000" cy="0"/>
          </a:xfrm>
          <a:prstGeom prst="line">
            <a:avLst/>
          </a:prstGeom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reflogo" descr=""/>
          <p:cNvPicPr/>
          <p:nvPr/>
        </p:nvPicPr>
        <p:blipFill>
          <a:blip r:embed="rId1"/>
          <a:stretch/>
        </p:blipFill>
        <p:spPr>
          <a:xfrm>
            <a:off x="4027320" y="5713560"/>
            <a:ext cx="1089360" cy="44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24000" y="5105520"/>
            <a:ext cx="6696000" cy="0"/>
          </a:xfrm>
          <a:prstGeom prst="line">
            <a:avLst/>
          </a:prstGeom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79640" y="3422520"/>
            <a:ext cx="6984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31920" y="4457880"/>
            <a:ext cx="69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8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rman Research Center for Artificial Intelligence (DFKI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artment of Document Analysis &amp; Information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ynamic control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138240" y="1059840"/>
            <a:ext cx="51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SI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360" y="5935680"/>
            <a:ext cx="8815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707240" y="4800600"/>
            <a:ext cx="466920" cy="409680"/>
            <a:chOff x="7707240" y="4800600"/>
            <a:chExt cx="466920" cy="409680"/>
          </a:xfrm>
        </p:grpSpPr>
        <p:sp>
          <p:nvSpPr>
            <p:cNvPr id="297" name=""/>
            <p:cNvSpPr/>
            <p:nvPr/>
          </p:nvSpPr>
          <p:spPr>
            <a:xfrm rot="5400000">
              <a:off x="7845480" y="4881600"/>
              <a:ext cx="409680" cy="247680"/>
            </a:xfrm>
            <a:prstGeom prst="rightArrow">
              <a:avLst>
                <a:gd name="adj1" fmla="val 24750"/>
                <a:gd name="adj2" fmla="val 4979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rot="5400000">
              <a:off x="7626240" y="4881600"/>
              <a:ext cx="409680" cy="247680"/>
            </a:xfrm>
            <a:prstGeom prst="rightArrow">
              <a:avLst>
                <a:gd name="adj1" fmla="val 24750"/>
                <a:gd name="adj2" fmla="val 4979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656480" y="5261040"/>
            <a:ext cx="639720" cy="466560"/>
            <a:chOff x="7656480" y="5261040"/>
            <a:chExt cx="639720" cy="466560"/>
          </a:xfrm>
        </p:grpSpPr>
        <p:sp>
          <p:nvSpPr>
            <p:cNvPr id="300" name=""/>
            <p:cNvSpPr/>
            <p:nvPr/>
          </p:nvSpPr>
          <p:spPr>
            <a:xfrm>
              <a:off x="7956360" y="5261040"/>
              <a:ext cx="339840" cy="338040"/>
            </a:xfrm>
            <a:prstGeom prst="can">
              <a:avLst>
                <a:gd name="adj" fmla="val 2215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13440" y="5327640"/>
              <a:ext cx="339840" cy="338040"/>
            </a:xfrm>
            <a:prstGeom prst="can">
              <a:avLst>
                <a:gd name="adj" fmla="val 2215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56480" y="5389560"/>
              <a:ext cx="339480" cy="338040"/>
            </a:xfrm>
            <a:prstGeom prst="can">
              <a:avLst>
                <a:gd name="adj" fmla="val 2215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728880" y="5240160"/>
            <a:ext cx="1571760" cy="777960"/>
          </a:xfrm>
          <a:prstGeom prst="rect">
            <a:avLst/>
          </a:prstGeom>
          <a:solidFill>
            <a:srgbClr val="c0c0c0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69696"/>
                </a:solidFill>
                <a:latin typeface="Arial"/>
              </a:rPr>
              <a:t>analysis special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20278200">
            <a:off x="5622840" y="4992480"/>
            <a:ext cx="1613160" cy="247320"/>
          </a:xfrm>
          <a:prstGeom prst="rightArrow">
            <a:avLst>
              <a:gd name="adj1" fmla="val 26926"/>
              <a:gd name="adj2" fmla="val 51999"/>
            </a:avLst>
          </a:prstGeom>
          <a:solidFill>
            <a:srgbClr val="c0c0c0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 rot="20278200">
            <a:off x="5501520" y="5226840"/>
            <a:ext cx="1612800" cy="247320"/>
          </a:xfrm>
          <a:prstGeom prst="rightArrow">
            <a:avLst>
              <a:gd name="adj1" fmla="val 26926"/>
              <a:gd name="adj2" fmla="val 51988"/>
            </a:avLst>
          </a:prstGeom>
          <a:solidFill>
            <a:srgbClr val="c0c0c0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10320" y="5706360"/>
            <a:ext cx="88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051520" y="5141880"/>
            <a:ext cx="376200" cy="519120"/>
            <a:chOff x="5051520" y="5141880"/>
            <a:chExt cx="376200" cy="519120"/>
          </a:xfrm>
        </p:grpSpPr>
        <p:grpSp>
          <p:nvGrpSpPr>
            <p:cNvPr id="308" name=""/>
            <p:cNvGrpSpPr/>
            <p:nvPr/>
          </p:nvGrpSpPr>
          <p:grpSpPr>
            <a:xfrm>
              <a:off x="5051520" y="5141880"/>
              <a:ext cx="317520" cy="316080"/>
              <a:chOff x="5051520" y="5141880"/>
              <a:chExt cx="317520" cy="3160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5058000" y="5145120"/>
                <a:ext cx="311040" cy="311040"/>
                <a:chOff x="5058000" y="5145120"/>
                <a:chExt cx="311040" cy="31104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5058000" y="5145120"/>
                  <a:ext cx="311040" cy="311040"/>
                  <a:chOff x="5058000" y="5145120"/>
                  <a:chExt cx="311040" cy="3110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058000" y="5145120"/>
                    <a:ext cx="26496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63" h="796">
                        <a:moveTo>
                          <a:pt x="24" y="796"/>
                        </a:moveTo>
                        <a:lnTo>
                          <a:pt x="7" y="702"/>
                        </a:lnTo>
                        <a:lnTo>
                          <a:pt x="0" y="611"/>
                        </a:lnTo>
                        <a:lnTo>
                          <a:pt x="4" y="548"/>
                        </a:lnTo>
                        <a:lnTo>
                          <a:pt x="14" y="491"/>
                        </a:lnTo>
                        <a:lnTo>
                          <a:pt x="31" y="429"/>
                        </a:lnTo>
                        <a:lnTo>
                          <a:pt x="59" y="366"/>
                        </a:lnTo>
                        <a:lnTo>
                          <a:pt x="94" y="300"/>
                        </a:lnTo>
                        <a:lnTo>
                          <a:pt x="129" y="248"/>
                        </a:lnTo>
                        <a:lnTo>
                          <a:pt x="171" y="195"/>
                        </a:lnTo>
                        <a:lnTo>
                          <a:pt x="219" y="150"/>
                        </a:lnTo>
                        <a:lnTo>
                          <a:pt x="268" y="112"/>
                        </a:lnTo>
                        <a:lnTo>
                          <a:pt x="320" y="80"/>
                        </a:lnTo>
                        <a:lnTo>
                          <a:pt x="384" y="52"/>
                        </a:lnTo>
                        <a:lnTo>
                          <a:pt x="457" y="28"/>
                        </a:lnTo>
                        <a:lnTo>
                          <a:pt x="520" y="11"/>
                        </a:lnTo>
                        <a:lnTo>
                          <a:pt x="596" y="0"/>
                        </a:lnTo>
                        <a:lnTo>
                          <a:pt x="693" y="0"/>
                        </a:lnTo>
                        <a:lnTo>
                          <a:pt x="767" y="14"/>
                        </a:lnTo>
                        <a:lnTo>
                          <a:pt x="853" y="35"/>
                        </a:lnTo>
                        <a:lnTo>
                          <a:pt x="940" y="73"/>
                        </a:lnTo>
                        <a:lnTo>
                          <a:pt x="1017" y="119"/>
                        </a:lnTo>
                        <a:lnTo>
                          <a:pt x="1069" y="164"/>
                        </a:lnTo>
                        <a:lnTo>
                          <a:pt x="1121" y="216"/>
                        </a:lnTo>
                        <a:lnTo>
                          <a:pt x="1163" y="268"/>
                        </a:lnTo>
                        <a:lnTo>
                          <a:pt x="1052" y="185"/>
                        </a:lnTo>
                        <a:lnTo>
                          <a:pt x="993" y="150"/>
                        </a:lnTo>
                        <a:lnTo>
                          <a:pt x="930" y="126"/>
                        </a:lnTo>
                        <a:lnTo>
                          <a:pt x="850" y="101"/>
                        </a:lnTo>
                        <a:lnTo>
                          <a:pt x="773" y="91"/>
                        </a:lnTo>
                        <a:lnTo>
                          <a:pt x="690" y="87"/>
                        </a:lnTo>
                        <a:lnTo>
                          <a:pt x="627" y="91"/>
                        </a:lnTo>
                        <a:lnTo>
                          <a:pt x="561" y="101"/>
                        </a:lnTo>
                        <a:lnTo>
                          <a:pt x="495" y="119"/>
                        </a:lnTo>
                        <a:lnTo>
                          <a:pt x="433" y="140"/>
                        </a:lnTo>
                        <a:lnTo>
                          <a:pt x="363" y="174"/>
                        </a:lnTo>
                        <a:lnTo>
                          <a:pt x="310" y="206"/>
                        </a:lnTo>
                        <a:lnTo>
                          <a:pt x="264" y="244"/>
                        </a:lnTo>
                        <a:lnTo>
                          <a:pt x="212" y="286"/>
                        </a:lnTo>
                        <a:lnTo>
                          <a:pt x="171" y="331"/>
                        </a:lnTo>
                        <a:lnTo>
                          <a:pt x="129" y="394"/>
                        </a:lnTo>
                        <a:lnTo>
                          <a:pt x="91" y="460"/>
                        </a:lnTo>
                        <a:lnTo>
                          <a:pt x="66" y="523"/>
                        </a:lnTo>
                        <a:lnTo>
                          <a:pt x="45" y="597"/>
                        </a:lnTo>
                        <a:lnTo>
                          <a:pt x="31" y="688"/>
                        </a:lnTo>
                        <a:lnTo>
                          <a:pt x="24" y="79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078520" y="5235840"/>
                    <a:ext cx="29052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2" h="977">
                        <a:moveTo>
                          <a:pt x="0" y="593"/>
                        </a:moveTo>
                        <a:lnTo>
                          <a:pt x="73" y="677"/>
                        </a:lnTo>
                        <a:lnTo>
                          <a:pt x="153" y="750"/>
                        </a:lnTo>
                        <a:lnTo>
                          <a:pt x="226" y="792"/>
                        </a:lnTo>
                        <a:lnTo>
                          <a:pt x="332" y="837"/>
                        </a:lnTo>
                        <a:lnTo>
                          <a:pt x="415" y="862"/>
                        </a:lnTo>
                        <a:lnTo>
                          <a:pt x="492" y="872"/>
                        </a:lnTo>
                        <a:lnTo>
                          <a:pt x="582" y="872"/>
                        </a:lnTo>
                        <a:lnTo>
                          <a:pt x="648" y="865"/>
                        </a:lnTo>
                        <a:lnTo>
                          <a:pt x="728" y="851"/>
                        </a:lnTo>
                        <a:lnTo>
                          <a:pt x="808" y="827"/>
                        </a:lnTo>
                        <a:lnTo>
                          <a:pt x="874" y="792"/>
                        </a:lnTo>
                        <a:lnTo>
                          <a:pt x="937" y="754"/>
                        </a:lnTo>
                        <a:lnTo>
                          <a:pt x="993" y="715"/>
                        </a:lnTo>
                        <a:lnTo>
                          <a:pt x="1048" y="660"/>
                        </a:lnTo>
                        <a:lnTo>
                          <a:pt x="1104" y="597"/>
                        </a:lnTo>
                        <a:lnTo>
                          <a:pt x="1147" y="538"/>
                        </a:lnTo>
                        <a:lnTo>
                          <a:pt x="1171" y="478"/>
                        </a:lnTo>
                        <a:lnTo>
                          <a:pt x="1202" y="384"/>
                        </a:lnTo>
                        <a:lnTo>
                          <a:pt x="1223" y="287"/>
                        </a:lnTo>
                        <a:lnTo>
                          <a:pt x="1227" y="200"/>
                        </a:lnTo>
                        <a:lnTo>
                          <a:pt x="1213" y="104"/>
                        </a:lnTo>
                        <a:lnTo>
                          <a:pt x="1182" y="0"/>
                        </a:lnTo>
                        <a:lnTo>
                          <a:pt x="1213" y="56"/>
                        </a:lnTo>
                        <a:lnTo>
                          <a:pt x="1248" y="136"/>
                        </a:lnTo>
                        <a:lnTo>
                          <a:pt x="1265" y="210"/>
                        </a:lnTo>
                        <a:lnTo>
                          <a:pt x="1282" y="280"/>
                        </a:lnTo>
                        <a:lnTo>
                          <a:pt x="1279" y="339"/>
                        </a:lnTo>
                        <a:lnTo>
                          <a:pt x="1275" y="419"/>
                        </a:lnTo>
                        <a:lnTo>
                          <a:pt x="1234" y="572"/>
                        </a:lnTo>
                        <a:lnTo>
                          <a:pt x="1192" y="656"/>
                        </a:lnTo>
                        <a:lnTo>
                          <a:pt x="1140" y="729"/>
                        </a:lnTo>
                        <a:lnTo>
                          <a:pt x="1083" y="792"/>
                        </a:lnTo>
                        <a:lnTo>
                          <a:pt x="1027" y="837"/>
                        </a:lnTo>
                        <a:lnTo>
                          <a:pt x="951" y="890"/>
                        </a:lnTo>
                        <a:lnTo>
                          <a:pt x="874" y="924"/>
                        </a:lnTo>
                        <a:lnTo>
                          <a:pt x="801" y="949"/>
                        </a:lnTo>
                        <a:lnTo>
                          <a:pt x="707" y="973"/>
                        </a:lnTo>
                        <a:lnTo>
                          <a:pt x="638" y="977"/>
                        </a:lnTo>
                        <a:lnTo>
                          <a:pt x="561" y="977"/>
                        </a:lnTo>
                        <a:lnTo>
                          <a:pt x="485" y="963"/>
                        </a:lnTo>
                        <a:lnTo>
                          <a:pt x="401" y="945"/>
                        </a:lnTo>
                        <a:lnTo>
                          <a:pt x="346" y="924"/>
                        </a:lnTo>
                        <a:lnTo>
                          <a:pt x="271" y="886"/>
                        </a:lnTo>
                        <a:lnTo>
                          <a:pt x="209" y="851"/>
                        </a:lnTo>
                        <a:lnTo>
                          <a:pt x="150" y="802"/>
                        </a:lnTo>
                        <a:lnTo>
                          <a:pt x="87" y="736"/>
                        </a:lnTo>
                        <a:lnTo>
                          <a:pt x="28" y="653"/>
                        </a:lnTo>
                        <a:lnTo>
                          <a:pt x="0" y="59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5060880" y="5149800"/>
                  <a:ext cx="308160" cy="293760"/>
                  <a:chOff x="5060880" y="5149800"/>
                  <a:chExt cx="308160" cy="29376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5078520" y="5370480"/>
                    <a:ext cx="745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322">
                        <a:moveTo>
                          <a:pt x="0" y="0"/>
                        </a:moveTo>
                        <a:lnTo>
                          <a:pt x="35" y="65"/>
                        </a:lnTo>
                        <a:lnTo>
                          <a:pt x="68" y="114"/>
                        </a:lnTo>
                        <a:lnTo>
                          <a:pt x="104" y="160"/>
                        </a:lnTo>
                        <a:lnTo>
                          <a:pt x="160" y="214"/>
                        </a:lnTo>
                        <a:lnTo>
                          <a:pt x="202" y="249"/>
                        </a:lnTo>
                        <a:lnTo>
                          <a:pt x="255" y="283"/>
                        </a:lnTo>
                        <a:lnTo>
                          <a:pt x="333" y="322"/>
                        </a:lnTo>
                        <a:lnTo>
                          <a:pt x="246" y="204"/>
                        </a:lnTo>
                        <a:lnTo>
                          <a:pt x="197" y="176"/>
                        </a:lnTo>
                        <a:lnTo>
                          <a:pt x="162" y="152"/>
                        </a:lnTo>
                        <a:lnTo>
                          <a:pt x="111" y="117"/>
                        </a:lnTo>
                        <a:lnTo>
                          <a:pt x="72" y="80"/>
                        </a:lnTo>
                        <a:lnTo>
                          <a:pt x="40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5342040" y="523404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634">
                        <a:moveTo>
                          <a:pt x="22" y="0"/>
                        </a:moveTo>
                        <a:lnTo>
                          <a:pt x="45" y="43"/>
                        </a:lnTo>
                        <a:lnTo>
                          <a:pt x="60" y="80"/>
                        </a:lnTo>
                        <a:lnTo>
                          <a:pt x="76" y="118"/>
                        </a:lnTo>
                        <a:lnTo>
                          <a:pt x="88" y="156"/>
                        </a:lnTo>
                        <a:lnTo>
                          <a:pt x="97" y="190"/>
                        </a:lnTo>
                        <a:lnTo>
                          <a:pt x="114" y="252"/>
                        </a:lnTo>
                        <a:lnTo>
                          <a:pt x="119" y="312"/>
                        </a:lnTo>
                        <a:lnTo>
                          <a:pt x="116" y="405"/>
                        </a:lnTo>
                        <a:lnTo>
                          <a:pt x="108" y="468"/>
                        </a:lnTo>
                        <a:lnTo>
                          <a:pt x="95" y="519"/>
                        </a:lnTo>
                        <a:lnTo>
                          <a:pt x="75" y="572"/>
                        </a:lnTo>
                        <a:lnTo>
                          <a:pt x="48" y="634"/>
                        </a:lnTo>
                        <a:lnTo>
                          <a:pt x="0" y="514"/>
                        </a:lnTo>
                        <a:lnTo>
                          <a:pt x="22" y="462"/>
                        </a:lnTo>
                        <a:lnTo>
                          <a:pt x="32" y="434"/>
                        </a:lnTo>
                        <a:lnTo>
                          <a:pt x="45" y="398"/>
                        </a:lnTo>
                        <a:lnTo>
                          <a:pt x="53" y="361"/>
                        </a:lnTo>
                        <a:lnTo>
                          <a:pt x="60" y="304"/>
                        </a:lnTo>
                        <a:lnTo>
                          <a:pt x="63" y="257"/>
                        </a:lnTo>
                        <a:lnTo>
                          <a:pt x="63" y="186"/>
                        </a:lnTo>
                        <a:lnTo>
                          <a:pt x="53" y="122"/>
                        </a:lnTo>
                        <a:lnTo>
                          <a:pt x="41" y="70"/>
                        </a:lnTo>
                        <a:lnTo>
                          <a:pt x="34" y="4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200560" y="5149800"/>
                    <a:ext cx="106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191">
                        <a:moveTo>
                          <a:pt x="0" y="0"/>
                        </a:moveTo>
                        <a:lnTo>
                          <a:pt x="36" y="69"/>
                        </a:lnTo>
                        <a:lnTo>
                          <a:pt x="92" y="66"/>
                        </a:lnTo>
                        <a:lnTo>
                          <a:pt x="143" y="69"/>
                        </a:lnTo>
                        <a:lnTo>
                          <a:pt x="190" y="76"/>
                        </a:lnTo>
                        <a:lnTo>
                          <a:pt x="234" y="85"/>
                        </a:lnTo>
                        <a:lnTo>
                          <a:pt x="278" y="96"/>
                        </a:lnTo>
                        <a:lnTo>
                          <a:pt x="308" y="105"/>
                        </a:lnTo>
                        <a:lnTo>
                          <a:pt x="348" y="122"/>
                        </a:lnTo>
                        <a:lnTo>
                          <a:pt x="393" y="144"/>
                        </a:lnTo>
                        <a:lnTo>
                          <a:pt x="473" y="191"/>
                        </a:lnTo>
                        <a:lnTo>
                          <a:pt x="427" y="143"/>
                        </a:lnTo>
                        <a:lnTo>
                          <a:pt x="394" y="118"/>
                        </a:lnTo>
                        <a:lnTo>
                          <a:pt x="351" y="90"/>
                        </a:lnTo>
                        <a:lnTo>
                          <a:pt x="325" y="74"/>
                        </a:lnTo>
                        <a:lnTo>
                          <a:pt x="265" y="46"/>
                        </a:lnTo>
                        <a:lnTo>
                          <a:pt x="227" y="32"/>
                        </a:lnTo>
                        <a:lnTo>
                          <a:pt x="196" y="22"/>
                        </a:lnTo>
                        <a:lnTo>
                          <a:pt x="167" y="15"/>
                        </a:lnTo>
                        <a:lnTo>
                          <a:pt x="122" y="7"/>
                        </a:lnTo>
                        <a:lnTo>
                          <a:pt x="74" y="1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060880" y="5210280"/>
                    <a:ext cx="334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50">
                        <a:moveTo>
                          <a:pt x="0" y="345"/>
                        </a:moveTo>
                        <a:lnTo>
                          <a:pt x="4" y="310"/>
                        </a:lnTo>
                        <a:lnTo>
                          <a:pt x="6" y="272"/>
                        </a:lnTo>
                        <a:lnTo>
                          <a:pt x="16" y="210"/>
                        </a:lnTo>
                        <a:lnTo>
                          <a:pt x="28" y="162"/>
                        </a:lnTo>
                        <a:lnTo>
                          <a:pt x="44" y="117"/>
                        </a:lnTo>
                        <a:lnTo>
                          <a:pt x="65" y="72"/>
                        </a:lnTo>
                        <a:lnTo>
                          <a:pt x="84" y="37"/>
                        </a:lnTo>
                        <a:lnTo>
                          <a:pt x="107" y="0"/>
                        </a:lnTo>
                        <a:lnTo>
                          <a:pt x="151" y="58"/>
                        </a:lnTo>
                        <a:lnTo>
                          <a:pt x="125" y="93"/>
                        </a:lnTo>
                        <a:lnTo>
                          <a:pt x="107" y="124"/>
                        </a:lnTo>
                        <a:lnTo>
                          <a:pt x="92" y="153"/>
                        </a:lnTo>
                        <a:lnTo>
                          <a:pt x="70" y="194"/>
                        </a:lnTo>
                        <a:lnTo>
                          <a:pt x="56" y="230"/>
                        </a:lnTo>
                        <a:lnTo>
                          <a:pt x="48" y="265"/>
                        </a:lnTo>
                        <a:lnTo>
                          <a:pt x="37" y="300"/>
                        </a:lnTo>
                        <a:lnTo>
                          <a:pt x="30" y="338"/>
                        </a:lnTo>
                        <a:lnTo>
                          <a:pt x="25" y="385"/>
                        </a:lnTo>
                        <a:lnTo>
                          <a:pt x="20" y="431"/>
                        </a:lnTo>
                        <a:lnTo>
                          <a:pt x="12" y="450"/>
                        </a:lnTo>
                        <a:lnTo>
                          <a:pt x="0" y="34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8" name=""/>
              <p:cNvSpPr/>
              <p:nvPr/>
            </p:nvSpPr>
            <p:spPr>
              <a:xfrm>
                <a:off x="5064120" y="5166000"/>
                <a:ext cx="304920" cy="291960"/>
              </a:xfrm>
              <a:prstGeom prst="ellipse">
                <a:avLst/>
              </a:prstGeom>
              <a:noFill/>
              <a:ln w="46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5051520" y="5141880"/>
                <a:ext cx="304920" cy="292320"/>
                <a:chOff x="5051520" y="5141880"/>
                <a:chExt cx="304920" cy="2923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056200" y="5145120"/>
                  <a:ext cx="297000" cy="285840"/>
                </a:xfrm>
                <a:prstGeom prst="ellipse">
                  <a:avLst/>
                </a:prstGeom>
                <a:noFill/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051520" y="5141880"/>
                  <a:ext cx="304920" cy="292320"/>
                </a:xfrm>
                <a:prstGeom prst="ellipse">
                  <a:avLst/>
                </a:prstGeom>
                <a:noFill/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059440" y="5148360"/>
                  <a:ext cx="289080" cy="277920"/>
                </a:xfrm>
                <a:prstGeom prst="ellipse">
                  <a:avLst/>
                </a:prstGeom>
                <a:noFill/>
                <a:ln w="1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5268960" y="5415120"/>
              <a:ext cx="158760" cy="245880"/>
              <a:chOff x="5268960" y="5415120"/>
              <a:chExt cx="158760" cy="245880"/>
            </a:xfrm>
          </p:grpSpPr>
          <p:sp>
            <p:nvSpPr>
              <p:cNvPr id="324" name=""/>
              <p:cNvSpPr/>
              <p:nvPr/>
            </p:nvSpPr>
            <p:spPr>
              <a:xfrm>
                <a:off x="5272200" y="5429520"/>
                <a:ext cx="147600" cy="212400"/>
              </a:xfrm>
              <a:custGeom>
                <a:avLst/>
                <a:gdLst/>
                <a:ahLst/>
                <a:rect l="l" t="t" r="r" b="b"/>
                <a:pathLst>
                  <a:path w="654" h="938">
                    <a:moveTo>
                      <a:pt x="0" y="69"/>
                    </a:moveTo>
                    <a:lnTo>
                      <a:pt x="464" y="938"/>
                    </a:lnTo>
                    <a:lnTo>
                      <a:pt x="654" y="842"/>
                    </a:lnTo>
                    <a:lnTo>
                      <a:pt x="188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268960" y="5415120"/>
                <a:ext cx="48960" cy="46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3" y="13211"/>
                    </a:moveTo>
                    <a:arcTo wR="10800" hR="10800" stAng="10025891" swAng="102331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3" y="13211"/>
                    </a:moveTo>
                    <a:arcTo wR="10800" hR="10800" stAng="10025891" swAng="10233137"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2200" y="5419800"/>
                <a:ext cx="45360" cy="4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" y="11518"/>
                    </a:moveTo>
                    <a:arcTo wR="10800" hR="10800" stAng="10571156" swAng="9766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" y="11518"/>
                    </a:moveTo>
                    <a:arcTo wR="10800" hR="10800" stAng="10571156" swAng="9766594"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70760" y="5419800"/>
                <a:ext cx="28440" cy="54000"/>
              </a:xfrm>
              <a:custGeom>
                <a:avLst/>
                <a:gdLst/>
                <a:ahLst/>
                <a:rect l="l" t="t" r="r" b="b"/>
                <a:pathLst>
                  <a:path w="125" h="240">
                    <a:moveTo>
                      <a:pt x="4" y="112"/>
                    </a:moveTo>
                    <a:lnTo>
                      <a:pt x="0" y="95"/>
                    </a:lnTo>
                    <a:lnTo>
                      <a:pt x="0" y="80"/>
                    </a:lnTo>
                    <a:lnTo>
                      <a:pt x="3" y="67"/>
                    </a:lnTo>
                    <a:lnTo>
                      <a:pt x="7" y="49"/>
                    </a:lnTo>
                    <a:lnTo>
                      <a:pt x="14" y="34"/>
                    </a:lnTo>
                    <a:lnTo>
                      <a:pt x="25" y="20"/>
                    </a:lnTo>
                    <a:lnTo>
                      <a:pt x="36" y="8"/>
                    </a:lnTo>
                    <a:lnTo>
                      <a:pt x="48" y="0"/>
                    </a:lnTo>
                    <a:lnTo>
                      <a:pt x="125" y="130"/>
                    </a:lnTo>
                    <a:lnTo>
                      <a:pt x="111" y="138"/>
                    </a:lnTo>
                    <a:lnTo>
                      <a:pt x="101" y="148"/>
                    </a:lnTo>
                    <a:lnTo>
                      <a:pt x="92" y="157"/>
                    </a:lnTo>
                    <a:lnTo>
                      <a:pt x="85" y="168"/>
                    </a:lnTo>
                    <a:lnTo>
                      <a:pt x="77" y="189"/>
                    </a:lnTo>
                    <a:lnTo>
                      <a:pt x="72" y="217"/>
                    </a:lnTo>
                    <a:lnTo>
                      <a:pt x="72" y="240"/>
                    </a:lnTo>
                    <a:lnTo>
                      <a:pt x="4" y="11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268960" y="5415120"/>
                <a:ext cx="47160" cy="4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95" y="13308"/>
                    </a:moveTo>
                    <a:arcTo wR="10800" hR="10800" stAng="9994395" swAng="49819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95" y="13308"/>
                    </a:moveTo>
                    <a:arcTo wR="10800" hR="10800" stAng="9994395" swAng="4981912"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286600" y="5445360"/>
                <a:ext cx="46080" cy="4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3" y="13961"/>
                    </a:moveTo>
                    <a:arcTo wR="10800" hR="10800" stAng="9778769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3" y="13961"/>
                    </a:moveTo>
                    <a:arcTo wR="10800" hR="10800" stAng="9778769" swAng="10800000"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5288040" y="5450040"/>
                <a:ext cx="50040" cy="47880"/>
                <a:chOff x="5288040" y="5450040"/>
                <a:chExt cx="50040" cy="4788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288040" y="5450040"/>
                  <a:ext cx="47160" cy="43560"/>
                  <a:chOff x="5288040" y="5450040"/>
                  <a:chExt cx="47160" cy="435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5288040" y="5450040"/>
                    <a:ext cx="4608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5" y="13222"/>
                        </a:moveTo>
                        <a:arcTo wR="10800" hR="10800" stAng="10022316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5" y="13222"/>
                        </a:moveTo>
                        <a:arcTo wR="10800" hR="10800" stAng="10022316" swAng="10800000"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288040" y="5450760"/>
                    <a:ext cx="4716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5" y="13222"/>
                        </a:moveTo>
                        <a:arcTo wR="10800" hR="10800" stAng="10022316" swAng="446729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5" y="13222"/>
                        </a:moveTo>
                        <a:arcTo wR="10800" hR="10800" stAng="10022316" swAng="4467292"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288040" y="5450040"/>
                    <a:ext cx="464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4" y="13217"/>
                        </a:moveTo>
                        <a:arcTo wR="10800" hR="10800" stAng="10024167" swAng="1055460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4" y="13217"/>
                        </a:moveTo>
                        <a:arcTo wR="10800" hR="10800" stAng="10024167" swAng="10554602"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5289480" y="5454720"/>
                  <a:ext cx="4860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92" y="13293"/>
                      </a:moveTo>
                      <a:arcTo wR="10800" hR="10800" stAng="9999218" swAng="104720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92" y="13293"/>
                      </a:moveTo>
                      <a:arcTo wR="10800" hR="10800" stAng="9999218" swAng="10472069"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292720" y="5457960"/>
                <a:ext cx="48240" cy="51120"/>
                <a:chOff x="5292720" y="5457960"/>
                <a:chExt cx="48240" cy="5112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5292720" y="5457960"/>
                  <a:ext cx="47160" cy="46080"/>
                  <a:chOff x="5292720" y="5457960"/>
                  <a:chExt cx="47160" cy="4608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5292720" y="5459400"/>
                    <a:ext cx="450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5" y="12438"/>
                        </a:moveTo>
                        <a:arcTo wR="10800" hR="10800" stAng="10276598" swAng="102997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5" y="12438"/>
                        </a:moveTo>
                        <a:arcTo wR="10800" hR="10800" stAng="10276598" swAng="10299795"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5292720" y="5460120"/>
                    <a:ext cx="47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5" y="12438"/>
                        </a:moveTo>
                        <a:arcTo wR="10800" hR="10800" stAng="10276598" swAng="421301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5" y="12438"/>
                        </a:moveTo>
                        <a:arcTo wR="10800" hR="10800" stAng="10276598" swAng="4213011"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5292720" y="5457960"/>
                    <a:ext cx="464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56" y="13137"/>
                        </a:moveTo>
                        <a:arcTo wR="10800" hR="10800" stAng="10050065" swAng="105619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56" y="13137"/>
                        </a:moveTo>
                        <a:arcTo wR="10800" hR="10800" stAng="10050065" swAng="10561980"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5294520" y="5462640"/>
                  <a:ext cx="46440" cy="4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6" y="12379"/>
                      </a:moveTo>
                      <a:arcTo wR="10800" hR="10800" stAng="10295609" swAng="103164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6" y="12379"/>
                      </a:moveTo>
                      <a:arcTo wR="10800" hR="10800" stAng="10295609" swAng="10316436"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297400" y="5467320"/>
                <a:ext cx="47880" cy="43920"/>
                <a:chOff x="5297400" y="5467320"/>
                <a:chExt cx="47880" cy="439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297400" y="5467320"/>
                  <a:ext cx="46080" cy="4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5" y="12438"/>
                      </a:moveTo>
                      <a:arcTo wR="10800" hR="10800" stAng="10276598" swAng="105457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5" y="12438"/>
                      </a:moveTo>
                      <a:arcTo wR="10800" hR="10800" stAng="10276598" swAng="10545719"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297400" y="5468040"/>
                  <a:ext cx="47880" cy="42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5" y="12438"/>
                      </a:moveTo>
                      <a:arcTo wR="10800" hR="10800" stAng="10276598" swAng="42130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5" y="12438"/>
                      </a:moveTo>
                      <a:arcTo wR="10800" hR="10800" stAng="10276598" swAng="4213011"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297400" y="5467320"/>
                <a:ext cx="49320" cy="48600"/>
                <a:chOff x="5297400" y="5467320"/>
                <a:chExt cx="49320" cy="4860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297400" y="5467320"/>
                  <a:ext cx="4788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74" y="13217"/>
                      </a:moveTo>
                      <a:arcTo wR="10800" hR="10800" stAng="10024167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74" y="13217"/>
                      </a:moveTo>
                      <a:arcTo wR="10800" hR="10800" stAng="10024167" swAng="10800000"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299200" y="5472360"/>
                  <a:ext cx="475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74" y="13217"/>
                      </a:moveTo>
                      <a:arcTo wR="10800" hR="10800" stAng="10024167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74" y="13217"/>
                      </a:moveTo>
                      <a:arcTo wR="10800" hR="10800" stAng="10024167" swAng="10800000"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272200" y="5429520"/>
                <a:ext cx="147600" cy="214200"/>
                <a:chOff x="5272200" y="5429520"/>
                <a:chExt cx="147600" cy="2142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315040" y="5429520"/>
                  <a:ext cx="104760" cy="190440"/>
                </a:xfrm>
                <a:prstGeom prst="line">
                  <a:avLst/>
                </a:prstGeom>
                <a:ln w="1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272200" y="5445360"/>
                  <a:ext cx="104760" cy="198360"/>
                </a:xfrm>
                <a:prstGeom prst="line">
                  <a:avLst/>
                </a:prstGeom>
                <a:ln w="1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302440" y="5475240"/>
                <a:ext cx="48240" cy="46080"/>
                <a:chOff x="5302440" y="5475240"/>
                <a:chExt cx="48240" cy="46080"/>
              </a:xfrm>
            </p:grpSpPr>
            <p:grpSp>
              <p:nvGrpSpPr>
                <p:cNvPr id="352" name=""/>
                <p:cNvGrpSpPr/>
                <p:nvPr/>
              </p:nvGrpSpPr>
              <p:grpSpPr>
                <a:xfrm>
                  <a:off x="5302440" y="5477040"/>
                  <a:ext cx="47160" cy="43200"/>
                  <a:chOff x="5302440" y="5477040"/>
                  <a:chExt cx="47160" cy="4320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5302440" y="5477040"/>
                    <a:ext cx="4464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5" y="12438"/>
                        </a:moveTo>
                        <a:arcTo wR="10800" hR="10800" stAng="10276598" swAng="102997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5" y="12438"/>
                        </a:moveTo>
                        <a:arcTo wR="10800" hR="10800" stAng="10276598" swAng="10299795"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5302440" y="5478120"/>
                    <a:ext cx="4716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5" y="12438"/>
                        </a:moveTo>
                        <a:arcTo wR="10800" hR="10800" stAng="10276598" swAng="43258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5" y="12438"/>
                        </a:moveTo>
                        <a:arcTo wR="10800" hR="10800" stAng="10276598" swAng="4325854"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5" name=""/>
                <p:cNvSpPr/>
                <p:nvPr/>
              </p:nvSpPr>
              <p:spPr>
                <a:xfrm>
                  <a:off x="5302440" y="5475240"/>
                  <a:ext cx="4752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74" y="13217"/>
                      </a:moveTo>
                      <a:arcTo wR="10800" hR="10800" stAng="10024167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74" y="13217"/>
                      </a:moveTo>
                      <a:arcTo wR="10800" hR="10800" stAng="10024167" swAng="10800000"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305680" y="5480280"/>
                  <a:ext cx="45000" cy="41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41" y="13068"/>
                      </a:moveTo>
                      <a:arcTo wR="10800" hR="10800" stAng="10072576" swAng="104301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41" y="13068"/>
                      </a:moveTo>
                      <a:arcTo wR="10800" hR="10800" stAng="10072576" swAng="10430149"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5303880" y="5481720"/>
                <a:ext cx="92160" cy="157320"/>
              </a:xfrm>
              <a:custGeom>
                <a:avLst/>
                <a:gdLst/>
                <a:ahLst/>
                <a:rect l="l" t="t" r="r" b="b"/>
                <a:pathLst>
                  <a:path w="403" h="693">
                    <a:moveTo>
                      <a:pt x="51" y="0"/>
                    </a:moveTo>
                    <a:lnTo>
                      <a:pt x="36" y="9"/>
                    </a:lnTo>
                    <a:lnTo>
                      <a:pt x="24" y="18"/>
                    </a:lnTo>
                    <a:lnTo>
                      <a:pt x="14" y="30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82"/>
                    </a:lnTo>
                    <a:lnTo>
                      <a:pt x="0" y="100"/>
                    </a:lnTo>
                    <a:lnTo>
                      <a:pt x="313" y="693"/>
                    </a:lnTo>
                    <a:lnTo>
                      <a:pt x="403" y="63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75520" y="5610240"/>
                <a:ext cx="52200" cy="50760"/>
              </a:xfrm>
              <a:prstGeom prst="ellipse">
                <a:avLst/>
              </a:prstGeom>
              <a:solidFill>
                <a:srgbClr val="c0c0c0"/>
              </a:solidFill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5395680" y="3882960"/>
            <a:ext cx="1144080" cy="384120"/>
            <a:chOff x="5395680" y="3882960"/>
            <a:chExt cx="1144080" cy="384120"/>
          </a:xfrm>
        </p:grpSpPr>
        <p:sp>
          <p:nvSpPr>
            <p:cNvPr id="360" name=""/>
            <p:cNvSpPr/>
            <p:nvPr/>
          </p:nvSpPr>
          <p:spPr>
            <a:xfrm>
              <a:off x="5396040" y="3882960"/>
              <a:ext cx="1143720" cy="203760"/>
            </a:xfrm>
            <a:prstGeom prst="rightArrow">
              <a:avLst>
                <a:gd name="adj1" fmla="val 24750"/>
                <a:gd name="adj2" fmla="val 168964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395320" y="4063320"/>
              <a:ext cx="1143720" cy="203760"/>
            </a:xfrm>
            <a:prstGeom prst="rightArrow">
              <a:avLst>
                <a:gd name="adj1" fmla="val 24750"/>
                <a:gd name="adj2" fmla="val 168964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540480" y="3621240"/>
            <a:ext cx="1960560" cy="1199880"/>
          </a:xfrm>
          <a:prstGeom prst="can">
            <a:avLst>
              <a:gd name="adj" fmla="val 2215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document knowledge</a:t>
            </a:r>
            <a:br>
              <a:rPr sz="1400"/>
            </a:b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&amp; analysis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537200">
            <a:off x="5788800" y="284256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7800">
            <a:off x="5065200" y="2984400"/>
            <a:ext cx="2337120" cy="247680"/>
          </a:xfrm>
          <a:prstGeom prst="rightArrow">
            <a:avLst>
              <a:gd name="adj1" fmla="val 19231"/>
              <a:gd name="adj2" fmla="val 5320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102200" y="1606680"/>
            <a:ext cx="825480" cy="1098360"/>
            <a:chOff x="4102200" y="1606680"/>
            <a:chExt cx="825480" cy="1098360"/>
          </a:xfrm>
        </p:grpSpPr>
        <p:sp>
          <p:nvSpPr>
            <p:cNvPr id="366" name=""/>
            <p:cNvSpPr/>
            <p:nvPr/>
          </p:nvSpPr>
          <p:spPr>
            <a:xfrm>
              <a:off x="4102200" y="1606680"/>
              <a:ext cx="825480" cy="10983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69696"/>
                  </a:solidFill>
                  <a:latin typeface="Arial"/>
                </a:rPr>
                <a:t>W</a:t>
              </a:r>
              <a:r>
                <a:rPr b="1" lang="de-DE" sz="1400" spc="-1" strike="noStrike">
                  <a:solidFill>
                    <a:srgbClr val="969696"/>
                  </a:solidFill>
                  <a:latin typeface="Arial"/>
                </a:rPr>
                <a:t>f</a:t>
              </a:r>
              <a:r>
                <a:rPr b="1" lang="en-GB" sz="1400" spc="-1" strike="noStrike">
                  <a:solidFill>
                    <a:srgbClr val="969696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4202280" y="1908000"/>
              <a:ext cx="619200" cy="771120"/>
              <a:chOff x="4202280" y="1908000"/>
              <a:chExt cx="619200" cy="771120"/>
            </a:xfrm>
          </p:grpSpPr>
          <p:sp>
            <p:nvSpPr>
              <p:cNvPr id="368" name=""/>
              <p:cNvSpPr/>
              <p:nvPr/>
            </p:nvSpPr>
            <p:spPr>
              <a:xfrm>
                <a:off x="4248360" y="1908000"/>
                <a:ext cx="262080" cy="116280"/>
              </a:xfrm>
              <a:prstGeom prst="flowChartPreparation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4561200" y="1908000"/>
                <a:ext cx="260280" cy="116280"/>
                <a:chOff x="4561200" y="1908000"/>
                <a:chExt cx="260280" cy="1162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4561200" y="1908000"/>
                  <a:ext cx="260280" cy="116280"/>
                </a:xfrm>
                <a:prstGeom prst="flowChartProcess">
                  <a:avLst/>
                </a:prstGeom>
                <a:solidFill>
                  <a:srgbClr val="c0c0c0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582800" y="1908000"/>
                  <a:ext cx="0" cy="1162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4248360" y="2137680"/>
                <a:ext cx="262080" cy="116280"/>
              </a:xfrm>
              <a:prstGeom prst="flowChartAlternateProcess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02280" y="2341440"/>
                <a:ext cx="354240" cy="116280"/>
              </a:xfrm>
              <a:prstGeom prst="flowChartDecision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4" name=""/>
              <p:cNvCxnSpPr>
                <a:stCxn id="368" idx="2"/>
                <a:endCxn id="372" idx="0"/>
              </p:cNvCxnSpPr>
              <p:nvPr/>
            </p:nvCxnSpPr>
            <p:spPr>
              <a:xfrm>
                <a:off x="4379760" y="2023920"/>
                <a:ext cx="1080" cy="11412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sm" type="triangle" w="sm"/>
              </a:ln>
            </p:spPr>
          </p:cxnSp>
          <p:cxnSp>
            <p:nvCxnSpPr>
              <p:cNvPr id="375" name=""/>
              <p:cNvCxnSpPr>
                <a:stCxn id="372" idx="2"/>
                <a:endCxn id="373" idx="0"/>
              </p:cNvCxnSpPr>
              <p:nvPr/>
            </p:nvCxnSpPr>
            <p:spPr>
              <a:xfrm>
                <a:off x="4379760" y="2253960"/>
                <a:ext cx="1080" cy="874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sm" type="triangle" w="sm"/>
              </a:ln>
            </p:spPr>
          </p:cxnSp>
          <p:cxnSp>
            <p:nvCxnSpPr>
              <p:cNvPr id="376" name=""/>
              <p:cNvCxnSpPr>
                <a:stCxn id="370" idx="2"/>
                <a:endCxn id="372" idx="3"/>
              </p:cNvCxnSpPr>
              <p:nvPr/>
            </p:nvCxnSpPr>
            <p:spPr>
              <a:xfrm rot="5400000">
                <a:off x="4514400" y="2019600"/>
                <a:ext cx="172080" cy="181440"/>
              </a:xfrm>
              <a:prstGeom prst="bentConnector2">
                <a:avLst/>
              </a:prstGeom>
              <a:ln w="9360">
                <a:solidFill>
                  <a:srgbClr val="c0c0c0"/>
                </a:solidFill>
                <a:miter/>
                <a:headEnd len="sm" type="oval" w="sm"/>
                <a:tailEnd len="sm" type="oval" w="sm"/>
              </a:ln>
            </p:spPr>
          </p:cxnSp>
          <p:cxnSp>
            <p:nvCxnSpPr>
              <p:cNvPr id="377" name=""/>
              <p:cNvCxnSpPr>
                <a:stCxn id="373" idx="2"/>
              </p:cNvCxnSpPr>
              <p:nvPr/>
            </p:nvCxnSpPr>
            <p:spPr>
              <a:xfrm>
                <a:off x="4379760" y="2457720"/>
                <a:ext cx="1080" cy="22176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sm" type="triangle" w="sm"/>
              </a:ln>
            </p:spPr>
          </p:cxnSp>
          <p:cxnSp>
            <p:nvCxnSpPr>
              <p:cNvPr id="378" name=""/>
              <p:cNvCxnSpPr/>
              <p:nvPr/>
            </p:nvCxnSpPr>
            <p:spPr>
              <a:xfrm flipV="1">
                <a:off x="4559040" y="2399040"/>
                <a:ext cx="15948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sm" type="triangle" w="sm"/>
              </a:ln>
            </p:spPr>
          </p:cxnSp>
        </p:grpSp>
      </p:grpSp>
      <p:sp>
        <p:nvSpPr>
          <p:cNvPr id="379" name=""/>
          <p:cNvSpPr/>
          <p:nvPr/>
        </p:nvSpPr>
        <p:spPr>
          <a:xfrm>
            <a:off x="2521080" y="1622520"/>
            <a:ext cx="981000" cy="1190520"/>
          </a:xfrm>
          <a:custGeom>
            <a:avLst/>
            <a:gdLst/>
            <a:ahLst/>
            <a:rect l="l" t="t" r="r" b="b"/>
            <a:pathLst>
              <a:path w="618" h="750">
                <a:moveTo>
                  <a:pt x="52" y="2"/>
                </a:moveTo>
                <a:lnTo>
                  <a:pt x="52" y="400"/>
                </a:lnTo>
                <a:lnTo>
                  <a:pt x="30" y="400"/>
                </a:lnTo>
                <a:lnTo>
                  <a:pt x="30" y="464"/>
                </a:lnTo>
                <a:lnTo>
                  <a:pt x="0" y="464"/>
                </a:lnTo>
                <a:lnTo>
                  <a:pt x="20" y="692"/>
                </a:lnTo>
                <a:lnTo>
                  <a:pt x="350" y="658"/>
                </a:lnTo>
                <a:lnTo>
                  <a:pt x="408" y="750"/>
                </a:lnTo>
                <a:lnTo>
                  <a:pt x="492" y="692"/>
                </a:lnTo>
                <a:lnTo>
                  <a:pt x="548" y="718"/>
                </a:lnTo>
                <a:lnTo>
                  <a:pt x="618" y="508"/>
                </a:lnTo>
                <a:lnTo>
                  <a:pt x="540" y="476"/>
                </a:lnTo>
                <a:lnTo>
                  <a:pt x="520" y="358"/>
                </a:lnTo>
                <a:lnTo>
                  <a:pt x="510" y="364"/>
                </a:lnTo>
                <a:lnTo>
                  <a:pt x="510" y="0"/>
                </a:lnTo>
                <a:lnTo>
                  <a:pt x="52" y="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68760" y="1104840"/>
            <a:ext cx="816120" cy="663480"/>
          </a:xfrm>
          <a:custGeom>
            <a:avLst/>
            <a:gdLst/>
            <a:ahLst/>
            <a:rect l="l" t="t" r="r" b="b"/>
            <a:pathLst>
              <a:path w="514" h="418">
                <a:moveTo>
                  <a:pt x="256" y="0"/>
                </a:moveTo>
                <a:lnTo>
                  <a:pt x="174" y="68"/>
                </a:lnTo>
                <a:lnTo>
                  <a:pt x="80" y="70"/>
                </a:lnTo>
                <a:lnTo>
                  <a:pt x="24" y="90"/>
                </a:lnTo>
                <a:lnTo>
                  <a:pt x="28" y="150"/>
                </a:lnTo>
                <a:lnTo>
                  <a:pt x="52" y="166"/>
                </a:lnTo>
                <a:lnTo>
                  <a:pt x="0" y="210"/>
                </a:lnTo>
                <a:lnTo>
                  <a:pt x="258" y="418"/>
                </a:lnTo>
                <a:lnTo>
                  <a:pt x="304" y="380"/>
                </a:lnTo>
                <a:lnTo>
                  <a:pt x="330" y="390"/>
                </a:lnTo>
                <a:lnTo>
                  <a:pt x="354" y="382"/>
                </a:lnTo>
                <a:lnTo>
                  <a:pt x="372" y="364"/>
                </a:lnTo>
                <a:lnTo>
                  <a:pt x="386" y="310"/>
                </a:lnTo>
                <a:lnTo>
                  <a:pt x="514" y="208"/>
                </a:lnTo>
                <a:lnTo>
                  <a:pt x="398" y="114"/>
                </a:lnTo>
                <a:lnTo>
                  <a:pt x="384" y="86"/>
                </a:lnTo>
                <a:lnTo>
                  <a:pt x="366" y="72"/>
                </a:lnTo>
                <a:lnTo>
                  <a:pt x="340" y="66"/>
                </a:lnTo>
                <a:lnTo>
                  <a:pt x="256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4221000" y="4890960"/>
            <a:ext cx="409680" cy="247680"/>
          </a:xfrm>
          <a:prstGeom prst="rightArrow">
            <a:avLst>
              <a:gd name="adj1" fmla="val 24750"/>
              <a:gd name="adj2" fmla="val 49790"/>
            </a:avLst>
          </a:prstGeom>
          <a:gradFill rotWithShape="0">
            <a:gsLst>
              <a:gs pos="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4055760" y="3043080"/>
            <a:ext cx="739800" cy="247680"/>
          </a:xfrm>
          <a:prstGeom prst="rightArrow">
            <a:avLst>
              <a:gd name="adj1" fmla="val 22583"/>
              <a:gd name="adj2" fmla="val 48482"/>
            </a:avLst>
          </a:prstGeom>
          <a:gradFill rotWithShape="0">
            <a:gsLst>
              <a:gs pos="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3600000">
            <a:off x="3255840" y="3076560"/>
            <a:ext cx="739440" cy="247680"/>
          </a:xfrm>
          <a:prstGeom prst="rightArrow">
            <a:avLst>
              <a:gd name="adj1" fmla="val 22583"/>
              <a:gd name="adj2" fmla="val 48458"/>
            </a:avLst>
          </a:prstGeom>
          <a:gradFill rotWithShape="0">
            <a:gsLst>
              <a:gs pos="0">
                <a:srgbClr val="969696"/>
              </a:gs>
              <a:gs pos="100000">
                <a:srgbClr val="e9e9e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60720" y="3633840"/>
            <a:ext cx="1466640" cy="1152360"/>
          </a:xfrm>
          <a:prstGeom prst="rightArrow">
            <a:avLst>
              <a:gd name="adj1" fmla="val 54269"/>
              <a:gd name="adj2" fmla="val 38706"/>
            </a:avLst>
          </a:prstGeom>
          <a:gradFill rotWithShape="0">
            <a:gsLst>
              <a:gs pos="0">
                <a:srgbClr val="969696"/>
              </a:gs>
              <a:gs pos="100000">
                <a:srgbClr val="e9e9e9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66960" y="3638520"/>
            <a:ext cx="1516320" cy="1163520"/>
          </a:xfrm>
          <a:prstGeom prst="rect">
            <a:avLst/>
          </a:prstGeom>
          <a:gradFill rotWithShape="0">
            <a:gsLst>
              <a:gs pos="0">
                <a:srgbClr val="53fe46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AU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24160" y="3268800"/>
            <a:ext cx="811080" cy="809640"/>
          </a:xfrm>
          <a:prstGeom prst="can">
            <a:avLst>
              <a:gd name="adj" fmla="val 22157"/>
            </a:avLst>
          </a:prstGeom>
          <a:gradFill rotWithShape="0">
            <a:gsLst>
              <a:gs pos="0">
                <a:srgbClr val="9c9f2d"/>
              </a:gs>
              <a:gs pos="100000">
                <a:srgbClr val="fbff4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14720" y="4430880"/>
            <a:ext cx="895320" cy="809280"/>
          </a:xfrm>
          <a:prstGeom prst="can">
            <a:avLst>
              <a:gd name="adj" fmla="val 22157"/>
            </a:avLst>
          </a:prstGeom>
          <a:gradFill rotWithShape="0">
            <a:gsLst>
              <a:gs pos="0">
                <a:srgbClr val="9c9f2d"/>
              </a:gs>
              <a:gs pos="100000">
                <a:srgbClr val="fbff4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43000" y="3816360"/>
            <a:ext cx="1079640" cy="809640"/>
          </a:xfrm>
          <a:prstGeom prst="can">
            <a:avLst>
              <a:gd name="adj" fmla="val 22157"/>
            </a:avLst>
          </a:prstGeom>
          <a:gradFill rotWithShape="0">
            <a:gsLst>
              <a:gs pos="0">
                <a:srgbClr val="9c9f2d"/>
              </a:gs>
              <a:gs pos="100000">
                <a:srgbClr val="fbff4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U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781520" y="3397320"/>
            <a:ext cx="611280" cy="633240"/>
            <a:chOff x="4781520" y="3397320"/>
            <a:chExt cx="611280" cy="633240"/>
          </a:xfrm>
        </p:grpSpPr>
        <p:sp>
          <p:nvSpPr>
            <p:cNvPr id="390" name=""/>
            <p:cNvSpPr/>
            <p:nvPr/>
          </p:nvSpPr>
          <p:spPr>
            <a:xfrm>
              <a:off x="5177880" y="3397320"/>
              <a:ext cx="214920" cy="292680"/>
            </a:xfrm>
            <a:custGeom>
              <a:avLst/>
              <a:gdLst/>
              <a:ahLst/>
              <a:rect l="l" t="t" r="r" b="b"/>
              <a:pathLst>
                <a:path w="685" h="932">
                  <a:moveTo>
                    <a:pt x="0" y="932"/>
                  </a:moveTo>
                  <a:lnTo>
                    <a:pt x="685" y="0"/>
                  </a:lnTo>
                  <a:lnTo>
                    <a:pt x="685" y="0"/>
                  </a:lnTo>
                </a:path>
              </a:pathLst>
            </a:custGeom>
            <a:solidFill>
              <a:srgbClr val="6699ff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781520" y="3467520"/>
              <a:ext cx="483480" cy="563040"/>
              <a:chOff x="4781520" y="3467520"/>
              <a:chExt cx="483480" cy="563040"/>
            </a:xfrm>
          </p:grpSpPr>
          <p:sp>
            <p:nvSpPr>
              <p:cNvPr id="392" name=""/>
              <p:cNvSpPr/>
              <p:nvPr/>
            </p:nvSpPr>
            <p:spPr>
              <a:xfrm>
                <a:off x="4905360" y="3467520"/>
                <a:ext cx="137160" cy="137160"/>
              </a:xfrm>
              <a:prstGeom prst="ellips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88720" y="3601080"/>
                <a:ext cx="476280" cy="429480"/>
              </a:xfrm>
              <a:custGeom>
                <a:avLst/>
                <a:gdLst/>
                <a:ahLst/>
                <a:rect l="l" t="t" r="r" b="b"/>
                <a:pathLst>
                  <a:path w="1520" h="1372">
                    <a:moveTo>
                      <a:pt x="451" y="54"/>
                    </a:moveTo>
                    <a:lnTo>
                      <a:pt x="363" y="54"/>
                    </a:lnTo>
                    <a:lnTo>
                      <a:pt x="246" y="121"/>
                    </a:lnTo>
                    <a:lnTo>
                      <a:pt x="0" y="473"/>
                    </a:lnTo>
                    <a:lnTo>
                      <a:pt x="12" y="634"/>
                    </a:lnTo>
                    <a:lnTo>
                      <a:pt x="179" y="759"/>
                    </a:lnTo>
                    <a:lnTo>
                      <a:pt x="314" y="850"/>
                    </a:lnTo>
                    <a:lnTo>
                      <a:pt x="481" y="644"/>
                    </a:lnTo>
                    <a:lnTo>
                      <a:pt x="415" y="591"/>
                    </a:lnTo>
                    <a:lnTo>
                      <a:pt x="365" y="543"/>
                    </a:lnTo>
                    <a:lnTo>
                      <a:pt x="476" y="367"/>
                    </a:lnTo>
                    <a:lnTo>
                      <a:pt x="803" y="589"/>
                    </a:lnTo>
                    <a:lnTo>
                      <a:pt x="485" y="1025"/>
                    </a:lnTo>
                    <a:lnTo>
                      <a:pt x="172" y="802"/>
                    </a:lnTo>
                    <a:lnTo>
                      <a:pt x="172" y="1074"/>
                    </a:lnTo>
                    <a:lnTo>
                      <a:pt x="219" y="1074"/>
                    </a:lnTo>
                    <a:lnTo>
                      <a:pt x="219" y="1372"/>
                    </a:lnTo>
                    <a:lnTo>
                      <a:pt x="944" y="1372"/>
                    </a:lnTo>
                    <a:lnTo>
                      <a:pt x="944" y="1075"/>
                    </a:lnTo>
                    <a:lnTo>
                      <a:pt x="999" y="1076"/>
                    </a:lnTo>
                    <a:lnTo>
                      <a:pt x="999" y="521"/>
                    </a:lnTo>
                    <a:lnTo>
                      <a:pt x="1063" y="569"/>
                    </a:lnTo>
                    <a:lnTo>
                      <a:pt x="1202" y="569"/>
                    </a:lnTo>
                    <a:lnTo>
                      <a:pt x="1218" y="548"/>
                    </a:lnTo>
                    <a:lnTo>
                      <a:pt x="1322" y="403"/>
                    </a:lnTo>
                    <a:lnTo>
                      <a:pt x="1520" y="151"/>
                    </a:lnTo>
                    <a:lnTo>
                      <a:pt x="1295" y="0"/>
                    </a:lnTo>
                    <a:lnTo>
                      <a:pt x="1153" y="189"/>
                    </a:lnTo>
                    <a:lnTo>
                      <a:pt x="1116" y="227"/>
                    </a:lnTo>
                    <a:lnTo>
                      <a:pt x="826" y="54"/>
                    </a:lnTo>
                    <a:lnTo>
                      <a:pt x="710" y="54"/>
                    </a:lnTo>
                    <a:lnTo>
                      <a:pt x="637" y="219"/>
                    </a:lnTo>
                    <a:lnTo>
                      <a:pt x="603" y="154"/>
                    </a:lnTo>
                    <a:lnTo>
                      <a:pt x="639" y="52"/>
                    </a:lnTo>
                    <a:lnTo>
                      <a:pt x="533" y="52"/>
                    </a:lnTo>
                    <a:lnTo>
                      <a:pt x="569" y="155"/>
                    </a:lnTo>
                    <a:lnTo>
                      <a:pt x="533" y="219"/>
                    </a:lnTo>
                    <a:lnTo>
                      <a:pt x="451" y="54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63960" y="3618000"/>
                <a:ext cx="78840" cy="6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896" y="18159"/>
                    </a:moveTo>
                    <a:arcTo wR="10800" hR="10800" stAng="8222710" swAng="105680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896" y="18159"/>
                    </a:moveTo>
                    <a:arcTo wR="10800" hR="10800" stAng="8222710" swAng="10568002"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81520" y="3740400"/>
                <a:ext cx="54360" cy="64440"/>
              </a:xfrm>
              <a:prstGeom prst="ellips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114160" y="3737160"/>
                <a:ext cx="60120" cy="49320"/>
              </a:xfrm>
              <a:prstGeom prst="ellips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 flipV="1" rot="16200000">
            <a:off x="4386240" y="4878360"/>
            <a:ext cx="409680" cy="247680"/>
          </a:xfrm>
          <a:prstGeom prst="rightArrow">
            <a:avLst>
              <a:gd name="adj1" fmla="val 24750"/>
              <a:gd name="adj2" fmla="val 49790"/>
            </a:avLst>
          </a:prstGeom>
          <a:gradFill rotWithShape="0">
            <a:gsLst>
              <a:gs pos="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 rot="16200000">
            <a:off x="4208400" y="3054960"/>
            <a:ext cx="739800" cy="247680"/>
          </a:xfrm>
          <a:prstGeom prst="rightArrow">
            <a:avLst>
              <a:gd name="adj1" fmla="val 22583"/>
              <a:gd name="adj2" fmla="val 48482"/>
            </a:avLst>
          </a:prstGeom>
          <a:gradFill rotWithShape="0">
            <a:gsLst>
              <a:gs pos="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968200" y="3141720"/>
            <a:ext cx="5991480" cy="2831760"/>
            <a:chOff x="2968200" y="3141720"/>
            <a:chExt cx="5991480" cy="2831760"/>
          </a:xfrm>
        </p:grpSpPr>
        <p:cxnSp>
          <p:nvCxnSpPr>
            <p:cNvPr id="400" name=""/>
            <p:cNvCxnSpPr>
              <a:stCxn id="387" idx="4"/>
              <a:endCxn id="401" idx="1"/>
            </p:cNvCxnSpPr>
            <p:nvPr/>
          </p:nvCxnSpPr>
          <p:spPr>
            <a:xfrm flipV="1">
              <a:off x="2968200" y="4556880"/>
              <a:ext cx="392760" cy="143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"/>
            <p:cNvSpPr/>
            <p:nvPr/>
          </p:nvSpPr>
          <p:spPr>
            <a:xfrm>
              <a:off x="3360600" y="3141720"/>
              <a:ext cx="5599080" cy="2831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[ProcessDataExtraction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gram = "/project/vo/VOPR/bin/pmknow”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PEZOID-WEIGHT = 0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ocumentId = "-d”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P-STRATEGY = "normal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ccuracy = "-a”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TTERN-SLOTGROUP = "logic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eedbackMessage = "-m”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TTERN-SLOT = "pattern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eedbackInstances = "-i”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TTERN-FACET = "phrase-rules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eedbackChannel = "-k”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FT-SLOT = "layout.left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bHost = "-x”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P-SLOT  = "layout.top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bPort = "-y”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GHT-SLOT = "layout.right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mote = "serv-401”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OTTOM-SLOT  = "layout.bottom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CEPT-PARTS = ( "Papier-Geschäftsbrief.Vorgangsangaben.Kundennummer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"Papier-Geschäftsbrief.Vorgangsangaben.Belegvorgangsnummer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"Papier-Geschäftsbrief.Vorgangsangaben.Bezugsvorgangsnummer"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76600" y="1061280"/>
            <a:ext cx="6229080" cy="3379320"/>
            <a:chOff x="2676600" y="1061280"/>
            <a:chExt cx="6229080" cy="3379320"/>
          </a:xfrm>
        </p:grpSpPr>
        <p:sp>
          <p:nvSpPr>
            <p:cNvPr id="403" name=""/>
            <p:cNvSpPr/>
            <p:nvPr/>
          </p:nvSpPr>
          <p:spPr>
            <a:xfrm>
              <a:off x="3306600" y="1061280"/>
              <a:ext cx="5599080" cy="3379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an-1:Plan( name="ProcessDetermination", next={ start-1 }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rt-1:Start( next={ spezialist-1 }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de-1:Ende( prev={ spezialist-16 }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pezialist-8:Spezialist( name="SenderExtraction", next={ entscheider-1 }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v={ spezialist-6 }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tscheider-1:Entscheider( wenn="Sender unique?", dann={ spezialist-2 }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nst={ spezialist-9 }, next={ spezialist-2, spezialist-9 }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pezialist-9:Spezialist( name="SenderEvaluation", next={ entscheider-2 }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v={ entscheider-1 }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tscheider-2:Entscheider( wenn="Sender rating satisfying?", dann={ spezialist-11 }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nst={ spezialist-10 }, next={ spezialist-10, spezialist-11 }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pezialist-10:Spezialist( name="ShortSenderExtraction", next={ spezialist-11 }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v={ entscheider-2 }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pezialist-13:Spezialist( name="ProductDataExtraction", next={ spezialist-14 }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v={ spezialist-12 }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386" idx="1"/>
              <a:endCxn id="403" idx="1"/>
            </p:cNvCxnSpPr>
            <p:nvPr/>
          </p:nvCxnSpPr>
          <p:spPr>
            <a:xfrm flipV="1">
              <a:off x="2676600" y="2750760"/>
              <a:ext cx="630720" cy="4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AU components and resulting specialists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44360" y="5905440"/>
            <a:ext cx="881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5360" y="3060720"/>
            <a:ext cx="2009880" cy="3238560"/>
          </a:xfrm>
          <a:prstGeom prst="can">
            <a:avLst>
              <a:gd name="adj" fmla="val 9217"/>
            </a:avLst>
          </a:prstGeom>
          <a:gradFill rotWithShape="0">
            <a:gsLst>
              <a:gs pos="0">
                <a:srgbClr val="9c9f2d"/>
              </a:gs>
              <a:gs pos="100000">
                <a:srgbClr val="fbff4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1280" y="5008680"/>
            <a:ext cx="1779480" cy="385560"/>
          </a:xfrm>
          <a:prstGeom prst="rect">
            <a:avLst/>
          </a:prstGeom>
          <a:gradFill rotWithShape="0">
            <a:gsLst>
              <a:gs pos="0">
                <a:srgbClr val="4583ff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extraction by pattern 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1280" y="4603680"/>
            <a:ext cx="1779480" cy="385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6f6f6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1280" y="4211640"/>
            <a:ext cx="1779480" cy="385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6f6f6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R, voting, and lexic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1280" y="3821040"/>
            <a:ext cx="1779480" cy="384120"/>
          </a:xfrm>
          <a:prstGeom prst="rect">
            <a:avLst/>
          </a:prstGeom>
          <a:gradFill rotWithShape="0">
            <a:gsLst>
              <a:gs pos="0">
                <a:srgbClr val="4583ff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image seg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1280" y="5413320"/>
            <a:ext cx="1779480" cy="385920"/>
          </a:xfrm>
          <a:prstGeom prst="rect">
            <a:avLst/>
          </a:prstGeom>
          <a:gradFill rotWithShape="0">
            <a:gsLst>
              <a:gs pos="0">
                <a:srgbClr val="4583ff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extraction by island par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1280" y="3429000"/>
            <a:ext cx="1779480" cy="385920"/>
          </a:xfrm>
          <a:prstGeom prst="rect">
            <a:avLst/>
          </a:prstGeom>
          <a:gradFill rotWithShape="0">
            <a:gsLst>
              <a:gs pos="0">
                <a:srgbClr val="4583ff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 recog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4320" y="309492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1280" y="5819760"/>
            <a:ext cx="1779480" cy="385920"/>
          </a:xfrm>
          <a:prstGeom prst="rect">
            <a:avLst/>
          </a:prstGeom>
          <a:gradFill rotWithShape="0">
            <a:gsLst>
              <a:gs pos="0">
                <a:srgbClr val="4583ff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-based table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120400" y="1885680"/>
            <a:ext cx="3192840" cy="1736640"/>
            <a:chOff x="2120400" y="1885680"/>
            <a:chExt cx="3192840" cy="1736640"/>
          </a:xfrm>
        </p:grpSpPr>
        <p:sp>
          <p:nvSpPr>
            <p:cNvPr id="417" name=""/>
            <p:cNvSpPr/>
            <p:nvPr/>
          </p:nvSpPr>
          <p:spPr>
            <a:xfrm>
              <a:off x="3548160" y="1885680"/>
              <a:ext cx="176508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90440" indent="-19044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mpany lo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8" name=""/>
            <p:cNvCxnSpPr>
              <a:stCxn id="413" idx="3"/>
              <a:endCxn id="417" idx="1"/>
            </p:cNvCxnSpPr>
            <p:nvPr/>
          </p:nvCxnSpPr>
          <p:spPr>
            <a:xfrm flipV="1">
              <a:off x="2120400" y="2069280"/>
              <a:ext cx="1428120" cy="1553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19" name=""/>
          <p:cNvGrpSpPr/>
          <p:nvPr/>
        </p:nvGrpSpPr>
        <p:grpSpPr>
          <a:xfrm>
            <a:off x="2120760" y="2396160"/>
            <a:ext cx="4175280" cy="2400840"/>
            <a:chOff x="2120760" y="2396160"/>
            <a:chExt cx="4175280" cy="2400840"/>
          </a:xfrm>
        </p:grpSpPr>
        <p:sp>
          <p:nvSpPr>
            <p:cNvPr id="420" name=""/>
            <p:cNvSpPr/>
            <p:nvPr/>
          </p:nvSpPr>
          <p:spPr>
            <a:xfrm>
              <a:off x="4530600" y="2396160"/>
              <a:ext cx="1765440" cy="69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90440" indent="-19044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duct 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ssage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1" name=""/>
            <p:cNvCxnSpPr>
              <a:stCxn id="409" idx="3"/>
              <a:endCxn id="420" idx="1"/>
            </p:cNvCxnSpPr>
            <p:nvPr/>
          </p:nvCxnSpPr>
          <p:spPr>
            <a:xfrm flipV="1">
              <a:off x="2120760" y="2745720"/>
              <a:ext cx="2410560" cy="2051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22" name=""/>
          <p:cNvGrpSpPr/>
          <p:nvPr/>
        </p:nvGrpSpPr>
        <p:grpSpPr>
          <a:xfrm>
            <a:off x="2120760" y="3236400"/>
            <a:ext cx="5197680" cy="1965960"/>
            <a:chOff x="2120760" y="3236400"/>
            <a:chExt cx="5197680" cy="1965960"/>
          </a:xfrm>
        </p:grpSpPr>
        <p:sp>
          <p:nvSpPr>
            <p:cNvPr id="423" name=""/>
            <p:cNvSpPr/>
            <p:nvPr/>
          </p:nvSpPr>
          <p:spPr>
            <a:xfrm>
              <a:off x="5511960" y="3236400"/>
              <a:ext cx="1806480" cy="1362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90440" indent="-19044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cord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ference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duc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4" name=""/>
            <p:cNvCxnSpPr>
              <a:stCxn id="408" idx="3"/>
              <a:endCxn id="423" idx="1"/>
            </p:cNvCxnSpPr>
            <p:nvPr/>
          </p:nvCxnSpPr>
          <p:spPr>
            <a:xfrm flipV="1">
              <a:off x="2120760" y="3917520"/>
              <a:ext cx="3391920" cy="1285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25" name=""/>
          <p:cNvGrpSpPr/>
          <p:nvPr/>
        </p:nvGrpSpPr>
        <p:grpSpPr>
          <a:xfrm>
            <a:off x="2120760" y="4602600"/>
            <a:ext cx="5516640" cy="1004040"/>
            <a:chOff x="2120760" y="4602600"/>
            <a:chExt cx="5516640" cy="1004040"/>
          </a:xfrm>
        </p:grpSpPr>
        <p:sp>
          <p:nvSpPr>
            <p:cNvPr id="426" name=""/>
            <p:cNvSpPr/>
            <p:nvPr/>
          </p:nvSpPr>
          <p:spPr>
            <a:xfrm>
              <a:off x="6535800" y="4602600"/>
              <a:ext cx="1101600" cy="974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90440" indent="-19044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cip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7" name=""/>
            <p:cNvCxnSpPr>
              <a:stCxn id="412" idx="3"/>
              <a:endCxn id="426" idx="1"/>
            </p:cNvCxnSpPr>
            <p:nvPr/>
          </p:nvCxnSpPr>
          <p:spPr>
            <a:xfrm flipV="1">
              <a:off x="2120760" y="5088960"/>
              <a:ext cx="4415760" cy="518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28" name=""/>
          <p:cNvGrpSpPr/>
          <p:nvPr/>
        </p:nvGrpSpPr>
        <p:grpSpPr>
          <a:xfrm>
            <a:off x="2120760" y="5446080"/>
            <a:ext cx="6391440" cy="642600"/>
            <a:chOff x="2120760" y="5446080"/>
            <a:chExt cx="6391440" cy="642600"/>
          </a:xfrm>
        </p:grpSpPr>
        <p:sp>
          <p:nvSpPr>
            <p:cNvPr id="429" name=""/>
            <p:cNvSpPr/>
            <p:nvPr/>
          </p:nvSpPr>
          <p:spPr>
            <a:xfrm>
              <a:off x="6853320" y="5446080"/>
              <a:ext cx="1658880" cy="642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90440" indent="-19044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duct 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0" name=""/>
            <p:cNvCxnSpPr>
              <a:stCxn id="415" idx="3"/>
              <a:endCxn id="429" idx="1"/>
            </p:cNvCxnSpPr>
            <p:nvPr/>
          </p:nvCxnSpPr>
          <p:spPr>
            <a:xfrm flipV="1">
              <a:off x="2120760" y="5766840"/>
              <a:ext cx="4733280" cy="246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381400" y="1265040"/>
            <a:ext cx="4973400" cy="4658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tributes represen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lots f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age (col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out (coordinates, p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nt (thesaurus relations, langu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 (patterns, gramm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 (domain-specific information un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face (database colum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ets f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age to thesau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s,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ocument Knowled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363600" y="1436760"/>
            <a:ext cx="8156520" cy="59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 12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out expectation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ong process determination in 4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th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expectation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8 expectation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from 6 differ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cess determination always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horter runtime of specialists (e.g., logo recognition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ttern matc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8240" y="1059840"/>
            <a:ext cx="51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DETERE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38240" y="1059840"/>
            <a:ext cx="51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TERN M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8013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1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vestigation of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sons for errors within 250 documen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1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ventional“ concept-based analysi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rror rates : 17-4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1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expectations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rror rates decrease from 20-45%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1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1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reason for that is that a lot of errors depended on character recognition problems for single characters (which can be nearly totall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paired by an error-tolerant matching based on expectation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14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016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Tahoma"/>
              </a:rPr>
              <a:t>Context-driven DAU within the </a:t>
            </a:r>
            <a:r>
              <a:rPr b="1" i="1" lang="de-DE" sz="2500" spc="-1" strike="noStrike">
                <a:solidFill>
                  <a:srgbClr val="000000"/>
                </a:solidFill>
                <a:latin typeface="Tahoma"/>
              </a:rPr>
              <a:t>VirtualOffice</a:t>
            </a:r>
            <a:r>
              <a:rPr b="1" lang="de-DE" sz="2500" spc="-1" strike="noStrike">
                <a:solidFill>
                  <a:srgbClr val="000000"/>
                </a:solidFill>
                <a:latin typeface="Tahoma"/>
              </a:rPr>
              <a:t> project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5200" y="1604520"/>
            <a:ext cx="8013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250000"/>
              </a:lnSpc>
              <a:spcBef>
                <a:spcPts val="1599"/>
              </a:spcBef>
              <a:spcAft>
                <a:spcPts val="4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1599"/>
              </a:spcBef>
              <a:spcAft>
                <a:spcPts val="4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stem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1599"/>
              </a:spcBef>
              <a:spcAft>
                <a:spcPts val="4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mplementation of the context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1599"/>
              </a:spcBef>
              <a:spcAft>
                <a:spcPts val="4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Tahoma"/>
              </a:rPr>
              <a:t>Goals to be achieved in </a:t>
            </a:r>
            <a:r>
              <a:rPr b="1" i="1" lang="de-DE" sz="2500" spc="-1" strike="noStrike">
                <a:solidFill>
                  <a:srgbClr val="000000"/>
                </a:solidFill>
                <a:latin typeface="Tahoma"/>
              </a:rPr>
              <a:t>VirtualOffice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5200" y="1689120"/>
            <a:ext cx="80136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400"/>
              </a:spcBef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hancement of DAU by considering background knowledge, i.e.,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1400"/>
              </a:spcBef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Seamless integratio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of DAU-system into Workflow Management Systems (Wf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1400"/>
              </a:spcBef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signment of incoming documents to corresponding workflow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inst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Tahoma"/>
              </a:rPr>
              <a:t>Context serves as information source for DAU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5200" y="1511280"/>
            <a:ext cx="8013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0080" indent="0">
              <a:spcBef>
                <a:spcPts val="1301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xpectation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0080" indent="-280080">
              <a:spcBef>
                <a:spcPts val="1301"/>
              </a:spcBef>
              <a:spcAft>
                <a:spcPts val="326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ntents and meaning of an expected docu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0080" indent="-280080">
              <a:spcBef>
                <a:spcPts val="1301"/>
              </a:spcBef>
              <a:spcAft>
                <a:spcPts val="326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nsists of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contents data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reference da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0080" indent="0">
              <a:spcBef>
                <a:spcPts val="1301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0080" indent="0">
              <a:spcBef>
                <a:spcPts val="1301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formation need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0080" indent="-280080">
              <a:spcBef>
                <a:spcPts val="1301"/>
              </a:spcBef>
              <a:spcAft>
                <a:spcPts val="326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ist of needed data item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0080" indent="-280080">
              <a:spcBef>
                <a:spcPts val="1301"/>
              </a:spcBef>
              <a:spcAft>
                <a:spcPts val="326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U derives analysis tas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01160" y="10598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XT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ahoma"/>
              </a:rPr>
              <a:t>VirtualOffice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 allows for a flexible analysis of documents in business processes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31760" y="105984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4520" y="5477040"/>
            <a:ext cx="936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4520" y="5477040"/>
            <a:ext cx="936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60440" y="1471680"/>
            <a:ext cx="1454400" cy="1933560"/>
            <a:chOff x="2260440" y="1471680"/>
            <a:chExt cx="1454400" cy="1933560"/>
          </a:xfrm>
        </p:grpSpPr>
        <p:sp>
          <p:nvSpPr>
            <p:cNvPr id="105" name=""/>
            <p:cNvSpPr/>
            <p:nvPr/>
          </p:nvSpPr>
          <p:spPr>
            <a:xfrm rot="3600000">
              <a:off x="3052440" y="2898720"/>
              <a:ext cx="739800" cy="247680"/>
            </a:xfrm>
            <a:prstGeom prst="rightArrow">
              <a:avLst>
                <a:gd name="adj1" fmla="val 22583"/>
                <a:gd name="adj2" fmla="val 48482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260440" y="1471680"/>
              <a:ext cx="1000440" cy="1181160"/>
              <a:chOff x="2260440" y="1471680"/>
              <a:chExt cx="1000440" cy="1181160"/>
            </a:xfrm>
          </p:grpSpPr>
          <p:pic>
            <p:nvPicPr>
              <p:cNvPr id="107" name="invoice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3240" y="1471680"/>
                <a:ext cx="725400" cy="101592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pic>
            <p:nvPicPr>
              <p:cNvPr id="108" name="Post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0440" y="1776240"/>
                <a:ext cx="1000440" cy="87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9" name=""/>
          <p:cNvGrpSpPr/>
          <p:nvPr/>
        </p:nvGrpSpPr>
        <p:grpSpPr>
          <a:xfrm>
            <a:off x="3463920" y="3219480"/>
            <a:ext cx="1725480" cy="1405080"/>
            <a:chOff x="3463920" y="3219480"/>
            <a:chExt cx="1725480" cy="1405080"/>
          </a:xfrm>
        </p:grpSpPr>
        <p:sp>
          <p:nvSpPr>
            <p:cNvPr id="110" name=""/>
            <p:cNvSpPr/>
            <p:nvPr/>
          </p:nvSpPr>
          <p:spPr>
            <a:xfrm>
              <a:off x="3463920" y="3460680"/>
              <a:ext cx="1515960" cy="1163880"/>
            </a:xfrm>
            <a:prstGeom prst="rect">
              <a:avLst/>
            </a:prstGeom>
            <a:gradFill rotWithShape="0">
              <a:gsLst>
                <a:gs pos="0">
                  <a:srgbClr val="53fe46"/>
                </a:gs>
                <a:gs pos="100000">
                  <a:srgbClr val="fefefe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AU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578480" y="3219480"/>
              <a:ext cx="610920" cy="633240"/>
              <a:chOff x="4578480" y="3219480"/>
              <a:chExt cx="610920" cy="633240"/>
            </a:xfrm>
          </p:grpSpPr>
          <p:sp>
            <p:nvSpPr>
              <p:cNvPr id="112" name=""/>
              <p:cNvSpPr/>
              <p:nvPr/>
            </p:nvSpPr>
            <p:spPr>
              <a:xfrm>
                <a:off x="4974480" y="3219480"/>
                <a:ext cx="214920" cy="292680"/>
              </a:xfrm>
              <a:custGeom>
                <a:avLst/>
                <a:gdLst/>
                <a:ahLst/>
                <a:rect l="l" t="t" r="r" b="b"/>
                <a:pathLst>
                  <a:path w="685" h="932">
                    <a:moveTo>
                      <a:pt x="0" y="932"/>
                    </a:moveTo>
                    <a:lnTo>
                      <a:pt x="685" y="0"/>
                    </a:lnTo>
                    <a:lnTo>
                      <a:pt x="685" y="0"/>
                    </a:lnTo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4578480" y="3289680"/>
                <a:ext cx="483480" cy="563040"/>
                <a:chOff x="4578480" y="3289680"/>
                <a:chExt cx="483480" cy="5630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702320" y="3289680"/>
                  <a:ext cx="137160" cy="137160"/>
                </a:xfrm>
                <a:prstGeom prst="ellipse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585680" y="3423240"/>
                  <a:ext cx="476280" cy="429480"/>
                </a:xfrm>
                <a:custGeom>
                  <a:avLst/>
                  <a:gdLst/>
                  <a:ahLst/>
                  <a:rect l="l" t="t" r="r" b="b"/>
                  <a:pathLst>
                    <a:path w="1520" h="1372">
                      <a:moveTo>
                        <a:pt x="451" y="54"/>
                      </a:moveTo>
                      <a:lnTo>
                        <a:pt x="363" y="54"/>
                      </a:lnTo>
                      <a:lnTo>
                        <a:pt x="246" y="121"/>
                      </a:lnTo>
                      <a:lnTo>
                        <a:pt x="0" y="473"/>
                      </a:lnTo>
                      <a:lnTo>
                        <a:pt x="12" y="634"/>
                      </a:lnTo>
                      <a:lnTo>
                        <a:pt x="179" y="759"/>
                      </a:lnTo>
                      <a:lnTo>
                        <a:pt x="314" y="850"/>
                      </a:lnTo>
                      <a:lnTo>
                        <a:pt x="481" y="644"/>
                      </a:lnTo>
                      <a:lnTo>
                        <a:pt x="415" y="591"/>
                      </a:lnTo>
                      <a:lnTo>
                        <a:pt x="365" y="543"/>
                      </a:lnTo>
                      <a:lnTo>
                        <a:pt x="476" y="367"/>
                      </a:lnTo>
                      <a:lnTo>
                        <a:pt x="803" y="589"/>
                      </a:lnTo>
                      <a:lnTo>
                        <a:pt x="485" y="1025"/>
                      </a:lnTo>
                      <a:lnTo>
                        <a:pt x="172" y="802"/>
                      </a:lnTo>
                      <a:lnTo>
                        <a:pt x="172" y="1074"/>
                      </a:lnTo>
                      <a:lnTo>
                        <a:pt x="219" y="1074"/>
                      </a:lnTo>
                      <a:lnTo>
                        <a:pt x="219" y="1372"/>
                      </a:lnTo>
                      <a:lnTo>
                        <a:pt x="944" y="1372"/>
                      </a:lnTo>
                      <a:lnTo>
                        <a:pt x="944" y="1075"/>
                      </a:lnTo>
                      <a:lnTo>
                        <a:pt x="999" y="1076"/>
                      </a:lnTo>
                      <a:lnTo>
                        <a:pt x="999" y="521"/>
                      </a:lnTo>
                      <a:lnTo>
                        <a:pt x="1063" y="569"/>
                      </a:lnTo>
                      <a:lnTo>
                        <a:pt x="1202" y="569"/>
                      </a:lnTo>
                      <a:lnTo>
                        <a:pt x="1218" y="548"/>
                      </a:lnTo>
                      <a:lnTo>
                        <a:pt x="1322" y="403"/>
                      </a:lnTo>
                      <a:lnTo>
                        <a:pt x="1520" y="151"/>
                      </a:lnTo>
                      <a:lnTo>
                        <a:pt x="1295" y="0"/>
                      </a:lnTo>
                      <a:lnTo>
                        <a:pt x="1153" y="189"/>
                      </a:lnTo>
                      <a:lnTo>
                        <a:pt x="1116" y="227"/>
                      </a:lnTo>
                      <a:lnTo>
                        <a:pt x="826" y="54"/>
                      </a:lnTo>
                      <a:lnTo>
                        <a:pt x="710" y="54"/>
                      </a:lnTo>
                      <a:lnTo>
                        <a:pt x="637" y="219"/>
                      </a:lnTo>
                      <a:lnTo>
                        <a:pt x="603" y="154"/>
                      </a:lnTo>
                      <a:lnTo>
                        <a:pt x="639" y="52"/>
                      </a:lnTo>
                      <a:lnTo>
                        <a:pt x="533" y="52"/>
                      </a:lnTo>
                      <a:lnTo>
                        <a:pt x="569" y="155"/>
                      </a:lnTo>
                      <a:lnTo>
                        <a:pt x="533" y="219"/>
                      </a:lnTo>
                      <a:lnTo>
                        <a:pt x="451" y="54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660920" y="3440160"/>
                  <a:ext cx="78840" cy="6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96" y="18159"/>
                      </a:moveTo>
                      <a:arcTo wR="10800" hR="10800" stAng="8222710" swAng="105680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96" y="18159"/>
                      </a:moveTo>
                      <a:arcTo wR="10800" hR="10800" stAng="8222710" swAng="10568002"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578480" y="3562560"/>
                  <a:ext cx="54360" cy="64440"/>
                </a:xfrm>
                <a:prstGeom prst="ellipse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911120" y="3559320"/>
                  <a:ext cx="60120" cy="49320"/>
                </a:xfrm>
                <a:prstGeom prst="ellipse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9" name=""/>
          <p:cNvGrpSpPr/>
          <p:nvPr/>
        </p:nvGrpSpPr>
        <p:grpSpPr>
          <a:xfrm>
            <a:off x="6714360" y="4740120"/>
            <a:ext cx="1050840" cy="1385640"/>
            <a:chOff x="6714360" y="4740120"/>
            <a:chExt cx="1050840" cy="1385640"/>
          </a:xfrm>
        </p:grpSpPr>
        <p:grpSp>
          <p:nvGrpSpPr>
            <p:cNvPr id="120" name=""/>
            <p:cNvGrpSpPr/>
            <p:nvPr/>
          </p:nvGrpSpPr>
          <p:grpSpPr>
            <a:xfrm>
              <a:off x="6913080" y="4740120"/>
              <a:ext cx="466200" cy="409680"/>
              <a:chOff x="6913080" y="4740120"/>
              <a:chExt cx="466200" cy="409680"/>
            </a:xfrm>
          </p:grpSpPr>
          <p:sp>
            <p:nvSpPr>
              <p:cNvPr id="121" name=""/>
              <p:cNvSpPr/>
              <p:nvPr/>
            </p:nvSpPr>
            <p:spPr>
              <a:xfrm rot="5400000">
                <a:off x="7050600" y="4821120"/>
                <a:ext cx="409680" cy="247320"/>
              </a:xfrm>
              <a:prstGeom prst="rightArrow">
                <a:avLst>
                  <a:gd name="adj1" fmla="val 24750"/>
                  <a:gd name="adj2" fmla="val 49863"/>
                </a:avLst>
              </a:prstGeom>
              <a:gradFill rotWithShape="0">
                <a:gsLst>
                  <a:gs pos="0">
                    <a:srgbClr val="e9e9e9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5400000">
                <a:off x="6831360" y="4821120"/>
                <a:ext cx="409680" cy="247320"/>
              </a:xfrm>
              <a:prstGeom prst="rightArrow">
                <a:avLst>
                  <a:gd name="adj1" fmla="val 24750"/>
                  <a:gd name="adj2" fmla="val 49863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862680" y="5200560"/>
              <a:ext cx="639720" cy="466560"/>
              <a:chOff x="6862680" y="5200560"/>
              <a:chExt cx="639720" cy="466560"/>
            </a:xfrm>
          </p:grpSpPr>
          <p:sp>
            <p:nvSpPr>
              <p:cNvPr id="124" name=""/>
              <p:cNvSpPr/>
              <p:nvPr/>
            </p:nvSpPr>
            <p:spPr>
              <a:xfrm>
                <a:off x="7162560" y="5200560"/>
                <a:ext cx="339840" cy="338040"/>
              </a:xfrm>
              <a:prstGeom prst="can">
                <a:avLst>
                  <a:gd name="adj" fmla="val 22157"/>
                </a:avLst>
              </a:prstGeom>
              <a:gradFill rotWithShape="0">
                <a:gsLst>
                  <a:gs pos="0">
                    <a:srgbClr val="9c9f2d"/>
                  </a:gs>
                  <a:gs pos="100000">
                    <a:srgbClr val="fbff49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19640" y="5267160"/>
                <a:ext cx="339840" cy="338040"/>
              </a:xfrm>
              <a:prstGeom prst="can">
                <a:avLst>
                  <a:gd name="adj" fmla="val 22157"/>
                </a:avLst>
              </a:prstGeom>
              <a:gradFill rotWithShape="0">
                <a:gsLst>
                  <a:gs pos="0">
                    <a:srgbClr val="9c9f2d"/>
                  </a:gs>
                  <a:gs pos="100000">
                    <a:srgbClr val="fbff49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62680" y="5329080"/>
                <a:ext cx="339480" cy="338040"/>
              </a:xfrm>
              <a:prstGeom prst="can">
                <a:avLst>
                  <a:gd name="adj" fmla="val 22157"/>
                </a:avLst>
              </a:prstGeom>
              <a:gradFill rotWithShape="0">
                <a:gsLst>
                  <a:gs pos="0">
                    <a:srgbClr val="9c9f2d"/>
                  </a:gs>
                  <a:gs pos="100000">
                    <a:srgbClr val="fbff49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714360" y="5563080"/>
              <a:ext cx="105084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rpo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143320" y="3443400"/>
            <a:ext cx="3065760" cy="2073240"/>
            <a:chOff x="5143320" y="3443400"/>
            <a:chExt cx="3065760" cy="2073240"/>
          </a:xfrm>
        </p:grpSpPr>
        <p:grpSp>
          <p:nvGrpSpPr>
            <p:cNvPr id="129" name=""/>
            <p:cNvGrpSpPr/>
            <p:nvPr/>
          </p:nvGrpSpPr>
          <p:grpSpPr>
            <a:xfrm>
              <a:off x="5143320" y="3676680"/>
              <a:ext cx="968040" cy="471600"/>
              <a:chOff x="5143320" y="3676680"/>
              <a:chExt cx="968040" cy="471600"/>
            </a:xfrm>
          </p:grpSpPr>
          <p:sp>
            <p:nvSpPr>
              <p:cNvPr id="130" name=""/>
              <p:cNvSpPr/>
              <p:nvPr/>
            </p:nvSpPr>
            <p:spPr>
              <a:xfrm>
                <a:off x="5228280" y="3676680"/>
                <a:ext cx="883080" cy="247680"/>
              </a:xfrm>
              <a:prstGeom prst="rightArrow">
                <a:avLst>
                  <a:gd name="adj1" fmla="val 24750"/>
                  <a:gd name="adj2" fmla="val 107325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142960" y="3900600"/>
                <a:ext cx="883080" cy="247680"/>
              </a:xfrm>
              <a:prstGeom prst="rightArrow">
                <a:avLst>
                  <a:gd name="adj1" fmla="val 24750"/>
                  <a:gd name="adj2" fmla="val 107325"/>
                </a:avLst>
              </a:prstGeom>
              <a:gradFill rotWithShape="0">
                <a:gsLst>
                  <a:gs pos="0">
                    <a:srgbClr val="e9e9e9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303960" y="3443400"/>
              <a:ext cx="1905120" cy="1199880"/>
            </a:xfrm>
            <a:prstGeom prst="can">
              <a:avLst>
                <a:gd name="adj" fmla="val 22157"/>
              </a:avLst>
            </a:prstGeom>
            <a:gradFill rotWithShape="0">
              <a:gsLst>
                <a:gs pos="0">
                  <a:srgbClr val="9c9f2d"/>
                </a:gs>
                <a:gs pos="100000">
                  <a:srgbClr val="fbff4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 knowledg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&amp; analysis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213880" y="4656960"/>
              <a:ext cx="1297440" cy="859680"/>
              <a:chOff x="5213880" y="4656960"/>
              <a:chExt cx="1297440" cy="859680"/>
            </a:xfrm>
          </p:grpSpPr>
          <p:sp>
            <p:nvSpPr>
              <p:cNvPr id="134" name=""/>
              <p:cNvSpPr/>
              <p:nvPr/>
            </p:nvSpPr>
            <p:spPr>
              <a:xfrm rot="20278200">
                <a:off x="5301000" y="4876560"/>
                <a:ext cx="1214280" cy="215640"/>
              </a:xfrm>
              <a:prstGeom prst="rightArrow">
                <a:avLst>
                  <a:gd name="adj1" fmla="val 26926"/>
                  <a:gd name="adj2" fmla="val 44892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 rot="20278200">
                <a:off x="5209560" y="5081040"/>
                <a:ext cx="1214280" cy="215640"/>
              </a:xfrm>
              <a:prstGeom prst="rightArrow">
                <a:avLst>
                  <a:gd name="adj1" fmla="val 26926"/>
                  <a:gd name="adj2" fmla="val 44892"/>
                </a:avLst>
              </a:prstGeom>
              <a:gradFill rotWithShape="0">
                <a:gsLst>
                  <a:gs pos="0">
                    <a:srgbClr val="e9e9e9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1957320" y="3456000"/>
            <a:ext cx="1467000" cy="1152360"/>
          </a:xfrm>
          <a:prstGeom prst="rightArrow">
            <a:avLst>
              <a:gd name="adj1" fmla="val 54269"/>
              <a:gd name="adj2" fmla="val 38715"/>
            </a:avLst>
          </a:prstGeom>
          <a:gradFill rotWithShape="0">
            <a:gsLst>
              <a:gs pos="0">
                <a:srgbClr val="969696"/>
              </a:gs>
              <a:gs pos="100000">
                <a:srgbClr val="e9e9e9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7320" y="3090960"/>
            <a:ext cx="811440" cy="809640"/>
          </a:xfrm>
          <a:prstGeom prst="can">
            <a:avLst>
              <a:gd name="adj" fmla="val 22157"/>
            </a:avLst>
          </a:prstGeom>
          <a:gradFill rotWithShape="0">
            <a:gsLst>
              <a:gs pos="0">
                <a:srgbClr val="9c9f2d"/>
              </a:gs>
              <a:gs pos="100000">
                <a:srgbClr val="fbff4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4253040"/>
            <a:ext cx="895320" cy="809640"/>
          </a:xfrm>
          <a:prstGeom prst="can">
            <a:avLst>
              <a:gd name="adj" fmla="val 22157"/>
            </a:avLst>
          </a:prstGeom>
          <a:gradFill rotWithShape="0">
            <a:gsLst>
              <a:gs pos="0">
                <a:srgbClr val="9c9f2d"/>
              </a:gs>
              <a:gs pos="100000">
                <a:srgbClr val="fbff4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5120" y="3638520"/>
            <a:ext cx="1079280" cy="809640"/>
          </a:xfrm>
          <a:prstGeom prst="can">
            <a:avLst>
              <a:gd name="adj" fmla="val 22157"/>
            </a:avLst>
          </a:prstGeom>
          <a:gradFill rotWithShape="0">
            <a:gsLst>
              <a:gs pos="0">
                <a:srgbClr val="9c9f2d"/>
              </a:gs>
              <a:gs pos="100000">
                <a:srgbClr val="fbff4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U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436920" y="4619520"/>
            <a:ext cx="1766880" cy="1220760"/>
            <a:chOff x="3436920" y="4619520"/>
            <a:chExt cx="1766880" cy="1220760"/>
          </a:xfrm>
        </p:grpSpPr>
        <p:sp>
          <p:nvSpPr>
            <p:cNvPr id="141" name=""/>
            <p:cNvSpPr/>
            <p:nvPr/>
          </p:nvSpPr>
          <p:spPr>
            <a:xfrm rot="5400000">
              <a:off x="4017960" y="4713120"/>
              <a:ext cx="409320" cy="247680"/>
            </a:xfrm>
            <a:prstGeom prst="rightArrow">
              <a:avLst>
                <a:gd name="adj1" fmla="val 24750"/>
                <a:gd name="adj2" fmla="val 49747"/>
              </a:avLst>
            </a:prstGeom>
            <a:gradFill rotWithShape="0">
              <a:gsLst>
                <a:gs pos="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6920" y="5062680"/>
              <a:ext cx="1571760" cy="777600"/>
            </a:xfrm>
            <a:prstGeom prst="rect">
              <a:avLst/>
            </a:prstGeom>
            <a:gradFill rotWithShape="0">
              <a:gsLst>
                <a:gs pos="0">
                  <a:srgbClr val="53fe46"/>
                </a:gs>
                <a:gs pos="100000">
                  <a:srgbClr val="fefefe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peciali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645080" y="4934880"/>
              <a:ext cx="558720" cy="558000"/>
              <a:chOff x="4645080" y="4934880"/>
              <a:chExt cx="558720" cy="558000"/>
            </a:xfrm>
          </p:grpSpPr>
          <p:pic>
            <p:nvPicPr>
              <p:cNvPr id="14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61000" y="4965840"/>
                <a:ext cx="382320" cy="52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4645080" y="4934880"/>
                <a:ext cx="55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rush Script"/>
                  </a:rPr>
                  <a:t>ab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V="1" rot="16200000">
              <a:off x="4182480" y="4700520"/>
              <a:ext cx="409680" cy="247320"/>
            </a:xfrm>
            <a:prstGeom prst="rightArrow">
              <a:avLst>
                <a:gd name="adj1" fmla="val 24750"/>
                <a:gd name="adj2" fmla="val 4986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809880" y="1182600"/>
            <a:ext cx="3228480" cy="2390760"/>
            <a:chOff x="3809880" y="1182600"/>
            <a:chExt cx="3228480" cy="2390760"/>
          </a:xfrm>
        </p:grpSpPr>
        <p:sp>
          <p:nvSpPr>
            <p:cNvPr id="148" name=""/>
            <p:cNvSpPr/>
            <p:nvPr/>
          </p:nvSpPr>
          <p:spPr>
            <a:xfrm rot="5400000">
              <a:off x="3852720" y="2865240"/>
              <a:ext cx="739800" cy="247680"/>
            </a:xfrm>
            <a:prstGeom prst="rightArrow">
              <a:avLst>
                <a:gd name="adj1" fmla="val 22583"/>
                <a:gd name="adj2" fmla="val 48482"/>
              </a:avLst>
            </a:prstGeom>
            <a:gradFill rotWithShape="0">
              <a:gsLst>
                <a:gs pos="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809880" y="1182600"/>
              <a:ext cx="3228480" cy="2390760"/>
              <a:chOff x="3809880" y="1182600"/>
              <a:chExt cx="3228480" cy="2390760"/>
            </a:xfrm>
          </p:grpSpPr>
          <p:sp>
            <p:nvSpPr>
              <p:cNvPr id="150" name=""/>
              <p:cNvSpPr/>
              <p:nvPr/>
            </p:nvSpPr>
            <p:spPr>
              <a:xfrm rot="1537200">
                <a:off x="5516280" y="2696400"/>
                <a:ext cx="10051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pect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27800">
                <a:off x="4773600" y="2806560"/>
                <a:ext cx="2336760" cy="247680"/>
              </a:xfrm>
              <a:prstGeom prst="rightArrow">
                <a:avLst>
                  <a:gd name="adj1" fmla="val 19231"/>
                  <a:gd name="adj2" fmla="val 53201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3809880" y="1182600"/>
                <a:ext cx="1519200" cy="1344600"/>
                <a:chOff x="3809880" y="1182600"/>
                <a:chExt cx="1519200" cy="134460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3809880" y="1428840"/>
                  <a:ext cx="825480" cy="1098360"/>
                  <a:chOff x="3809880" y="1428840"/>
                  <a:chExt cx="825480" cy="10983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3809880" y="1428840"/>
                    <a:ext cx="825480" cy="1098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3fe46"/>
                      </a:gs>
                      <a:gs pos="100000">
                        <a:srgbClr val="fefefe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Arial"/>
                      </a:rPr>
                      <a:t>f</a:t>
                    </a:r>
                    <a:r>
                      <a:rPr b="1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M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3909960" y="1730520"/>
                    <a:ext cx="619200" cy="771480"/>
                    <a:chOff x="3909960" y="1730520"/>
                    <a:chExt cx="619200" cy="77148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3956040" y="1730520"/>
                      <a:ext cx="262080" cy="116280"/>
                    </a:xfrm>
                    <a:prstGeom prst="flowChartPreparat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7" name=""/>
                    <p:cNvGrpSpPr/>
                    <p:nvPr/>
                  </p:nvGrpSpPr>
                  <p:grpSpPr>
                    <a:xfrm>
                      <a:off x="4268880" y="1730520"/>
                      <a:ext cx="260280" cy="116280"/>
                      <a:chOff x="4268880" y="1730520"/>
                      <a:chExt cx="260280" cy="116280"/>
                    </a:xfrm>
                  </p:grpSpPr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4268880" y="1730520"/>
                        <a:ext cx="260280" cy="116280"/>
                      </a:xfrm>
                      <a:prstGeom prst="flowChartProcess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4290480" y="1730520"/>
                        <a:ext cx="0" cy="116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3956040" y="1960560"/>
                      <a:ext cx="262080" cy="116280"/>
                    </a:xfrm>
                    <a:prstGeom prst="flowChartAlternateProcess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3909960" y="2163960"/>
                      <a:ext cx="354240" cy="116280"/>
                    </a:xfrm>
                    <a:prstGeom prst="flowChartDecision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520" bIns="11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162" name=""/>
                    <p:cNvCxnSpPr>
                      <a:stCxn id="156" idx="2"/>
                      <a:endCxn id="160" idx="0"/>
                    </p:cNvCxnSpPr>
                    <p:nvPr/>
                  </p:nvCxnSpPr>
                  <p:spPr>
                    <a:xfrm>
                      <a:off x="4087440" y="1846440"/>
                      <a:ext cx="1080" cy="114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</p:cxnSp>
                <p:cxnSp>
                  <p:nvCxnSpPr>
                    <p:cNvPr id="163" name=""/>
                    <p:cNvCxnSpPr>
                      <a:stCxn id="160" idx="2"/>
                      <a:endCxn id="161" idx="0"/>
                    </p:cNvCxnSpPr>
                    <p:nvPr/>
                  </p:nvCxnSpPr>
                  <p:spPr>
                    <a:xfrm>
                      <a:off x="4087440" y="2076840"/>
                      <a:ext cx="1080" cy="878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</p:cxnSp>
                <p:cxnSp>
                  <p:nvCxnSpPr>
                    <p:cNvPr id="164" name=""/>
                    <p:cNvCxnSpPr>
                      <a:stCxn id="158" idx="2"/>
                      <a:endCxn id="160" idx="3"/>
                    </p:cNvCxnSpPr>
                    <p:nvPr/>
                  </p:nvCxnSpPr>
                  <p:spPr>
                    <a:xfrm rot="5400000">
                      <a:off x="4222080" y="1842120"/>
                      <a:ext cx="172080" cy="181440"/>
                    </a:xfrm>
                    <a:prstGeom prst="bentConnector2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sm" type="oval" w="sm"/>
                      <a:tailEnd len="sm" type="oval" w="sm"/>
                    </a:ln>
                  </p:spPr>
                </p:cxnSp>
                <p:cxnSp>
                  <p:nvCxnSpPr>
                    <p:cNvPr id="165" name=""/>
                    <p:cNvCxnSpPr>
                      <a:stCxn id="161" idx="2"/>
                    </p:cNvCxnSpPr>
                    <p:nvPr/>
                  </p:nvCxnSpPr>
                  <p:spPr>
                    <a:xfrm>
                      <a:off x="4087440" y="2280600"/>
                      <a:ext cx="1080" cy="2217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</p:cxnSp>
                <p:cxnSp>
                  <p:nvCxnSpPr>
                    <p:cNvPr id="166" name=""/>
                    <p:cNvCxnSpPr/>
                    <p:nvPr/>
                  </p:nvCxnSpPr>
                  <p:spPr>
                    <a:xfrm flipV="1">
                      <a:off x="4266720" y="2221920"/>
                      <a:ext cx="15948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</p:cxnSp>
              </p:grpSp>
            </p:grpSp>
            <p:pic>
              <p:nvPicPr>
                <p:cNvPr id="1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514760" y="1182600"/>
                  <a:ext cx="814320" cy="66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68" name=""/>
            <p:cNvSpPr/>
            <p:nvPr/>
          </p:nvSpPr>
          <p:spPr>
            <a:xfrm flipV="1" rot="16200000">
              <a:off x="4005000" y="2877120"/>
              <a:ext cx="739800" cy="247680"/>
            </a:xfrm>
            <a:prstGeom prst="rightArrow">
              <a:avLst>
                <a:gd name="adj1" fmla="val 22583"/>
                <a:gd name="adj2" fmla="val 48482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404000">
            <a:off x="3394080" y="1639440"/>
            <a:ext cx="4340160" cy="1878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ontext is delivered from workflow instances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862280" y="2160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095480" y="2986200"/>
            <a:ext cx="2333520" cy="1155600"/>
            <a:chOff x="1095480" y="2986200"/>
            <a:chExt cx="2333520" cy="1155600"/>
          </a:xfrm>
        </p:grpSpPr>
        <p:sp>
          <p:nvSpPr>
            <p:cNvPr id="173" name=""/>
            <p:cNvSpPr/>
            <p:nvPr/>
          </p:nvSpPr>
          <p:spPr>
            <a:xfrm flipH="1">
              <a:off x="2776320" y="3684600"/>
              <a:ext cx="152280" cy="45720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095480" y="3049560"/>
              <a:ext cx="1359720" cy="419400"/>
              <a:chOff x="1095480" y="3049560"/>
              <a:chExt cx="1359720" cy="419400"/>
            </a:xfrm>
          </p:grpSpPr>
          <p:sp>
            <p:nvSpPr>
              <p:cNvPr id="175" name=""/>
              <p:cNvSpPr/>
              <p:nvPr/>
            </p:nvSpPr>
            <p:spPr>
              <a:xfrm rot="21573600">
                <a:off x="1096560" y="3125520"/>
                <a:ext cx="1357200" cy="338040"/>
              </a:xfrm>
              <a:prstGeom prst="rightArrow">
                <a:avLst>
                  <a:gd name="adj1" fmla="val 21519"/>
                  <a:gd name="adj2" fmla="val 55502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60600" y="3049560"/>
                <a:ext cx="73008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ahoma"/>
                  </a:rPr>
                  <a:t>ad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486160" y="2986200"/>
              <a:ext cx="942840" cy="642960"/>
            </a:xfrm>
            <a:prstGeom prst="can">
              <a:avLst>
                <a:gd name="adj" fmla="val 22157"/>
              </a:avLst>
            </a:prstGeom>
            <a:gradFill rotWithShape="0">
              <a:gsLst>
                <a:gs pos="0">
                  <a:srgbClr val="9c9f2d"/>
                </a:gs>
                <a:gs pos="100000">
                  <a:srgbClr val="fbff4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xt p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443560" y="2160720"/>
            <a:ext cx="3429000" cy="3047760"/>
            <a:chOff x="5443560" y="2160720"/>
            <a:chExt cx="3429000" cy="3047760"/>
          </a:xfrm>
        </p:grpSpPr>
        <p:grpSp>
          <p:nvGrpSpPr>
            <p:cNvPr id="179" name=""/>
            <p:cNvGrpSpPr/>
            <p:nvPr/>
          </p:nvGrpSpPr>
          <p:grpSpPr>
            <a:xfrm>
              <a:off x="5443560" y="2160720"/>
              <a:ext cx="1752480" cy="2408040"/>
              <a:chOff x="5443560" y="2160720"/>
              <a:chExt cx="1752480" cy="240804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5605560" y="3260160"/>
                <a:ext cx="1582920" cy="1050480"/>
                <a:chOff x="5605560" y="3260160"/>
                <a:chExt cx="1582920" cy="105048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5616720" y="3293640"/>
                  <a:ext cx="1527120" cy="982440"/>
                  <a:chOff x="5616720" y="3293640"/>
                  <a:chExt cx="1527120" cy="9824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616720" y="3293640"/>
                    <a:ext cx="1520280" cy="9824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623200" y="3523680"/>
                    <a:ext cx="152064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623200" y="3783960"/>
                    <a:ext cx="152064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623200" y="4044240"/>
                    <a:ext cx="152064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5605560" y="3260160"/>
                  <a:ext cx="11682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ntents dat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634720" y="3513600"/>
                  <a:ext cx="124128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reference dat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627160" y="3765960"/>
                  <a:ext cx="15613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dministrative dat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638320" y="4018680"/>
                  <a:ext cx="14061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information need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5519880" y="2160720"/>
                <a:ext cx="16761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43560" y="4294080"/>
                <a:ext cx="1295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422400" y="2160720"/>
              <a:ext cx="2450160" cy="3047760"/>
              <a:chOff x="6422400" y="2160720"/>
              <a:chExt cx="2450160" cy="3047760"/>
            </a:xfrm>
          </p:grpSpPr>
          <p:sp>
            <p:nvSpPr>
              <p:cNvPr id="193" name=""/>
              <p:cNvSpPr/>
              <p:nvPr/>
            </p:nvSpPr>
            <p:spPr>
              <a:xfrm>
                <a:off x="7272360" y="2160720"/>
                <a:ext cx="0" cy="30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1573600">
                <a:off x="7140240" y="3985920"/>
                <a:ext cx="673200" cy="338040"/>
              </a:xfrm>
              <a:prstGeom prst="rightArrow">
                <a:avLst>
                  <a:gd name="adj1" fmla="val 21519"/>
                  <a:gd name="adj2" fmla="val 27530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14720" y="4378680"/>
                <a:ext cx="1407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alysis task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74040" y="2971800"/>
                <a:ext cx="1298520" cy="798480"/>
              </a:xfrm>
              <a:prstGeom prst="can">
                <a:avLst>
                  <a:gd name="adj" fmla="val 18689"/>
                </a:avLst>
              </a:prstGeom>
              <a:gradFill rotWithShape="0">
                <a:gsLst>
                  <a:gs pos="0">
                    <a:srgbClr val="9c9f2d"/>
                  </a:gs>
                  <a:gs pos="100000">
                    <a:srgbClr val="fbff49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document</a:t>
                </a:r>
                <a:br>
                  <a:rPr sz="1400"/>
                </a:br>
                <a:r>
                  <a:rPr b="0" sz="1400" spc="-1" strike="noStrike">
                    <a:solidFill>
                      <a:srgbClr val="000000"/>
                    </a:solidFill>
                    <a:latin typeface="Arial"/>
                  </a:rPr>
                  <a:t>knowled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27840" y="3833640"/>
                <a:ext cx="1006560" cy="621000"/>
              </a:xfrm>
              <a:prstGeom prst="rect">
                <a:avLst/>
              </a:prstGeom>
              <a:gradFill rotWithShape="0">
                <a:gsLst>
                  <a:gs pos="0">
                    <a:srgbClr val="53fe46"/>
                  </a:gs>
                  <a:gs pos="100000">
                    <a:srgbClr val="fefefe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Arial"/>
                  </a:rPr>
                  <a:t>DAU contr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446960" y="4206960"/>
                <a:ext cx="0" cy="23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1573600">
                <a:off x="7149600" y="3204720"/>
                <a:ext cx="403200" cy="639720"/>
              </a:xfrm>
              <a:prstGeom prst="rightArrow">
                <a:avLst>
                  <a:gd name="adj1" fmla="val 43630"/>
                  <a:gd name="adj2" fmla="val 30546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02600" y="3165480"/>
                <a:ext cx="0" cy="23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22400" y="2907360"/>
                <a:ext cx="1436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pectations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96040" y="216072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DA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3385800" y="2160720"/>
            <a:ext cx="3751560" cy="3047760"/>
            <a:chOff x="3385800" y="2160720"/>
            <a:chExt cx="3751560" cy="3047760"/>
          </a:xfrm>
        </p:grpSpPr>
        <p:grpSp>
          <p:nvGrpSpPr>
            <p:cNvPr id="204" name=""/>
            <p:cNvGrpSpPr/>
            <p:nvPr/>
          </p:nvGrpSpPr>
          <p:grpSpPr>
            <a:xfrm>
              <a:off x="4765680" y="2160720"/>
              <a:ext cx="2371680" cy="3047760"/>
              <a:chOff x="4765680" y="2160720"/>
              <a:chExt cx="2371680" cy="30477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765680" y="2160720"/>
                <a:ext cx="944640" cy="3047760"/>
                <a:chOff x="4765680" y="2160720"/>
                <a:chExt cx="944640" cy="30477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443560" y="2160720"/>
                  <a:ext cx="0" cy="30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765680" y="2914560"/>
                  <a:ext cx="94464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200" spc="-1" strike="noStrike">
                      <a:solidFill>
                        <a:srgbClr val="000000"/>
                      </a:solidFill>
                      <a:latin typeface="Tahoma"/>
                    </a:rPr>
                    <a:t>gener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380200" y="3197160"/>
                  <a:ext cx="0" cy="230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21573600">
                  <a:off x="5024160" y="3288960"/>
                  <a:ext cx="571320" cy="338040"/>
                </a:xfrm>
                <a:prstGeom prst="rightArrow">
                  <a:avLst>
                    <a:gd name="adj1" fmla="val 16046"/>
                    <a:gd name="adj2" fmla="val 40633"/>
                  </a:avLst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e9e9e9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483160" y="3289320"/>
                <a:ext cx="1654200" cy="1366920"/>
                <a:chOff x="5483160" y="3289320"/>
                <a:chExt cx="1654200" cy="13669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616720" y="3289320"/>
                  <a:ext cx="1520640" cy="9828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483160" y="4379760"/>
                  <a:ext cx="1295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context uni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385800" y="3013920"/>
              <a:ext cx="1837080" cy="1770840"/>
              <a:chOff x="3385800" y="3013920"/>
              <a:chExt cx="1837080" cy="1770840"/>
            </a:xfrm>
          </p:grpSpPr>
          <p:sp>
            <p:nvSpPr>
              <p:cNvPr id="214" name=""/>
              <p:cNvSpPr/>
              <p:nvPr/>
            </p:nvSpPr>
            <p:spPr>
              <a:xfrm rot="16173600">
                <a:off x="4286880" y="3942360"/>
                <a:ext cx="619200" cy="338040"/>
              </a:xfrm>
              <a:prstGeom prst="rightArrow">
                <a:avLst>
                  <a:gd name="adj1" fmla="val 21519"/>
                  <a:gd name="adj2" fmla="val 25322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3385800" y="3013920"/>
                <a:ext cx="1837080" cy="1770840"/>
                <a:chOff x="3385800" y="3013920"/>
                <a:chExt cx="1837080" cy="1770840"/>
              </a:xfrm>
            </p:grpSpPr>
            <p:sp>
              <p:nvSpPr>
                <p:cNvPr id="216" name=""/>
                <p:cNvSpPr/>
                <p:nvPr/>
              </p:nvSpPr>
              <p:spPr>
                <a:xfrm flipH="1">
                  <a:off x="3385800" y="4446720"/>
                  <a:ext cx="6094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3427560" y="3013920"/>
                  <a:ext cx="621720" cy="430200"/>
                  <a:chOff x="3427560" y="3013920"/>
                  <a:chExt cx="621720" cy="43020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21573600">
                    <a:off x="3428640" y="3103560"/>
                    <a:ext cx="619200" cy="338040"/>
                  </a:xfrm>
                  <a:prstGeom prst="rightArrow">
                    <a:avLst>
                      <a:gd name="adj1" fmla="val 22620"/>
                      <a:gd name="adj2" fmla="val 43995"/>
                    </a:avLst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e9e9e9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459960" y="3013920"/>
                    <a:ext cx="5191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ahoma"/>
                      </a:rPr>
                      <a:t>fac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>
                  <a:off x="3995640" y="4141800"/>
                  <a:ext cx="1227240" cy="642960"/>
                </a:xfrm>
                <a:prstGeom prst="can">
                  <a:avLst>
                    <a:gd name="adj" fmla="val 22157"/>
                  </a:avLst>
                </a:prstGeom>
                <a:gradFill rotWithShape="0">
                  <a:gsLst>
                    <a:gs pos="0">
                      <a:srgbClr val="9c9f2d"/>
                    </a:gs>
                    <a:gs pos="100000">
                      <a:srgbClr val="fbff49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ransformation ru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068720" y="3197160"/>
                  <a:ext cx="1108080" cy="59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fe46"/>
                    </a:gs>
                    <a:gs pos="100000">
                      <a:srgbClr val="fefefe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Arial"/>
                    </a:rPr>
                    <a:t>inference eng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2" name=""/>
          <p:cNvSpPr/>
          <p:nvPr/>
        </p:nvSpPr>
        <p:spPr>
          <a:xfrm>
            <a:off x="2395440" y="4141800"/>
            <a:ext cx="1122480" cy="54756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9c9f2d"/>
              </a:gs>
              <a:gs pos="100000">
                <a:srgbClr val="fbff49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nt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57360" y="3075120"/>
            <a:ext cx="1066680" cy="10666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58760" y="2389320"/>
            <a:ext cx="1322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documents &amp;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7880" y="3637080"/>
            <a:ext cx="387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85960" y="332892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77520" y="3652920"/>
            <a:ext cx="8892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2960" y="3201840"/>
            <a:ext cx="460440" cy="241560"/>
          </a:xfrm>
          <a:prstGeom prst="flowChartAlternateProcess">
            <a:avLst/>
          </a:prstGeom>
          <a:solidFill>
            <a:srgbClr val="ff52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4360" y="4141800"/>
            <a:ext cx="919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5960" y="288756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69840" y="3649680"/>
            <a:ext cx="8892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6280" y="3797280"/>
            <a:ext cx="371520" cy="241200"/>
          </a:xfrm>
          <a:prstGeom prst="flowChartAlternateProcess">
            <a:avLst/>
          </a:prstGeom>
          <a:solidFill>
            <a:srgbClr val="ff52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2960" y="2755800"/>
            <a:ext cx="460440" cy="241560"/>
          </a:xfrm>
          <a:prstGeom prst="flowChartAlternateProcess">
            <a:avLst/>
          </a:prstGeom>
          <a:solidFill>
            <a:srgbClr val="ff52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2080" y="3797280"/>
            <a:ext cx="371520" cy="241200"/>
          </a:xfrm>
          <a:prstGeom prst="flowChartAlternateProcess">
            <a:avLst/>
          </a:prstGeom>
          <a:solidFill>
            <a:srgbClr val="ff52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5760" y="2160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f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73160" y="2747880"/>
            <a:ext cx="668160" cy="6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101880"/>
            <a:ext cx="91440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Uniform representation formalism for generic document knowledge, database schemas, expectations,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and analysis results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56880" y="105984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07200" y="1579680"/>
            <a:ext cx="1704960" cy="425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0f7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223400" y="1594440"/>
            <a:ext cx="1545840" cy="307080"/>
            <a:chOff x="7223400" y="1594440"/>
            <a:chExt cx="1545840" cy="307080"/>
          </a:xfrm>
        </p:grpSpPr>
        <p:sp>
          <p:nvSpPr>
            <p:cNvPr id="241" name=""/>
            <p:cNvSpPr/>
            <p:nvPr/>
          </p:nvSpPr>
          <p:spPr>
            <a:xfrm>
              <a:off x="7245360" y="1865160"/>
              <a:ext cx="152388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3400" y="159444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-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196040" y="2205720"/>
            <a:ext cx="1684080" cy="307080"/>
            <a:chOff x="7196040" y="2205720"/>
            <a:chExt cx="1684080" cy="307080"/>
          </a:xfrm>
        </p:grpSpPr>
        <p:sp>
          <p:nvSpPr>
            <p:cNvPr id="244" name=""/>
            <p:cNvSpPr/>
            <p:nvPr/>
          </p:nvSpPr>
          <p:spPr>
            <a:xfrm>
              <a:off x="7318440" y="2489040"/>
              <a:ext cx="1561680" cy="0"/>
            </a:xfrm>
            <a:prstGeom prst="line">
              <a:avLst/>
            </a:prstGeom>
            <a:ln cap="rnd" w="25560">
              <a:solidFill>
                <a:srgbClr val="00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6040" y="220572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s-pa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7496280" y="3062160"/>
            <a:ext cx="1001520" cy="594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11120" y="2592360"/>
            <a:ext cx="1001880" cy="59364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per 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5560" y="3135240"/>
            <a:ext cx="1001520" cy="59364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52960" y="2109960"/>
            <a:ext cx="1001520" cy="59364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7" idx="6"/>
            <a:endCxn id="249" idx="2"/>
          </p:cNvCxnSpPr>
          <p:nvPr/>
        </p:nvCxnSpPr>
        <p:spPr>
          <a:xfrm flipV="1">
            <a:off x="2312640" y="2405880"/>
            <a:ext cx="940680" cy="483480"/>
          </a:xfrm>
          <a:prstGeom prst="straightConnector1">
            <a:avLst/>
          </a:prstGeom>
          <a:ln w="324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251" name=""/>
          <p:cNvCxnSpPr>
            <a:stCxn id="247" idx="6"/>
            <a:endCxn id="248" idx="2"/>
          </p:cNvCxnSpPr>
          <p:nvPr/>
        </p:nvCxnSpPr>
        <p:spPr>
          <a:xfrm>
            <a:off x="2313000" y="2889360"/>
            <a:ext cx="953280" cy="543600"/>
          </a:xfrm>
          <a:prstGeom prst="straightConnector1">
            <a:avLst/>
          </a:prstGeom>
          <a:ln w="324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252" name=""/>
          <p:cNvCxnSpPr>
            <a:stCxn id="247" idx="4"/>
            <a:endCxn id="253" idx="0"/>
          </p:cNvCxnSpPr>
          <p:nvPr/>
        </p:nvCxnSpPr>
        <p:spPr>
          <a:xfrm>
            <a:off x="1812600" y="3186000"/>
            <a:ext cx="1080" cy="331200"/>
          </a:xfrm>
          <a:prstGeom prst="straightConnector1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1311120" y="3516480"/>
            <a:ext cx="1001880" cy="59364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254120" y="1899000"/>
            <a:ext cx="4515120" cy="2426760"/>
            <a:chOff x="4254120" y="1899000"/>
            <a:chExt cx="4515120" cy="2426760"/>
          </a:xfrm>
        </p:grpSpPr>
        <p:grpSp>
          <p:nvGrpSpPr>
            <p:cNvPr id="255" name=""/>
            <p:cNvGrpSpPr/>
            <p:nvPr/>
          </p:nvGrpSpPr>
          <p:grpSpPr>
            <a:xfrm>
              <a:off x="7193160" y="1899000"/>
              <a:ext cx="1576080" cy="307080"/>
              <a:chOff x="7193160" y="1899000"/>
              <a:chExt cx="1576080" cy="307080"/>
            </a:xfrm>
          </p:grpSpPr>
          <p:sp>
            <p:nvSpPr>
              <p:cNvPr id="256" name=""/>
              <p:cNvSpPr/>
              <p:nvPr/>
            </p:nvSpPr>
            <p:spPr>
              <a:xfrm>
                <a:off x="7207200" y="2182680"/>
                <a:ext cx="1562040" cy="0"/>
              </a:xfrm>
              <a:prstGeom prst="line">
                <a:avLst/>
              </a:prstGeom>
              <a:ln w="25560">
                <a:solidFill>
                  <a:srgbClr val="53fe4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93160" y="1899000"/>
                <a:ext cx="121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as-datafa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254120" y="2066760"/>
              <a:ext cx="4243680" cy="2259000"/>
              <a:chOff x="4254120" y="2066760"/>
              <a:chExt cx="4243680" cy="2259000"/>
            </a:xfrm>
          </p:grpSpPr>
          <p:sp>
            <p:nvSpPr>
              <p:cNvPr id="259" name=""/>
              <p:cNvSpPr/>
              <p:nvPr/>
            </p:nvSpPr>
            <p:spPr>
              <a:xfrm>
                <a:off x="5537160" y="2298600"/>
                <a:ext cx="292320" cy="228600"/>
              </a:xfrm>
              <a:custGeom>
                <a:avLst/>
                <a:gdLst/>
                <a:ahLst/>
                <a:rect l="l" t="t" r="r" b="b"/>
                <a:pathLst>
                  <a:path w="552" h="160">
                    <a:moveTo>
                      <a:pt x="0" y="104"/>
                    </a:moveTo>
                    <a:cubicBezTo>
                      <a:pt x="13" y="84"/>
                      <a:pt x="23" y="71"/>
                      <a:pt x="32" y="48"/>
                    </a:cubicBezTo>
                    <a:cubicBezTo>
                      <a:pt x="36" y="38"/>
                      <a:pt x="40" y="16"/>
                      <a:pt x="40" y="16"/>
                    </a:cubicBezTo>
                    <a:lnTo>
                      <a:pt x="64" y="96"/>
                    </a:lnTo>
                    <a:lnTo>
                      <a:pt x="144" y="0"/>
                    </a:lnTo>
                    <a:lnTo>
                      <a:pt x="192" y="112"/>
                    </a:lnTo>
                    <a:lnTo>
                      <a:pt x="224" y="32"/>
                    </a:lnTo>
                    <a:lnTo>
                      <a:pt x="240" y="128"/>
                    </a:lnTo>
                    <a:lnTo>
                      <a:pt x="336" y="56"/>
                    </a:lnTo>
                    <a:lnTo>
                      <a:pt x="352" y="160"/>
                    </a:lnTo>
                    <a:lnTo>
                      <a:pt x="456" y="32"/>
                    </a:lnTo>
                    <a:lnTo>
                      <a:pt x="528" y="136"/>
                    </a:lnTo>
                    <a:lnTo>
                      <a:pt x="552" y="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96280" y="3732120"/>
                <a:ext cx="1001520" cy="5936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fefe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fa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37080" y="2103480"/>
                <a:ext cx="1001880" cy="5936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fefe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fa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2" name=""/>
              <p:cNvCxnSpPr>
                <a:stCxn id="249" idx="6"/>
                <a:endCxn id="261" idx="2"/>
              </p:cNvCxnSpPr>
              <p:nvPr/>
            </p:nvCxnSpPr>
            <p:spPr>
              <a:xfrm flipV="1">
                <a:off x="4254120" y="2399760"/>
                <a:ext cx="283320" cy="6840"/>
              </a:xfrm>
              <a:prstGeom prst="straightConnector1">
                <a:avLst/>
              </a:prstGeom>
              <a:ln w="3240">
                <a:solidFill>
                  <a:srgbClr val="53fe46"/>
                </a:solidFill>
                <a:miter/>
                <a:tailEnd len="med" type="triangle" w="med"/>
              </a:ln>
            </p:spPr>
          </p:cxnSp>
          <p:sp>
            <p:nvSpPr>
              <p:cNvPr id="263" name=""/>
              <p:cNvSpPr/>
              <p:nvPr/>
            </p:nvSpPr>
            <p:spPr>
              <a:xfrm>
                <a:off x="5703840" y="2066760"/>
                <a:ext cx="900000" cy="675000"/>
              </a:xfrm>
              <a:prstGeom prst="can">
                <a:avLst>
                  <a:gd name="adj" fmla="val 22157"/>
                </a:avLst>
              </a:prstGeom>
              <a:gradFill rotWithShape="0">
                <a:gsLst>
                  <a:gs pos="0">
                    <a:srgbClr val="9c9f2d"/>
                  </a:gs>
                  <a:gs pos="100000">
                    <a:srgbClr val="fbff49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upplier datab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4535640" y="2817720"/>
            <a:ext cx="1001520" cy="59364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10080" y="3541680"/>
            <a:ext cx="1001880" cy="59364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48" idx="6"/>
            <a:endCxn id="264" idx="2"/>
          </p:cNvCxnSpPr>
          <p:nvPr/>
        </p:nvCxnSpPr>
        <p:spPr>
          <a:xfrm flipV="1">
            <a:off x="4267080" y="3114720"/>
            <a:ext cx="269280" cy="317880"/>
          </a:xfrm>
          <a:prstGeom prst="straightConnector1">
            <a:avLst/>
          </a:prstGeom>
          <a:ln w="324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267" name=""/>
          <p:cNvCxnSpPr>
            <a:stCxn id="248" idx="6"/>
            <a:endCxn id="265" idx="2"/>
          </p:cNvCxnSpPr>
          <p:nvPr/>
        </p:nvCxnSpPr>
        <p:spPr>
          <a:xfrm>
            <a:off x="4266720" y="3431880"/>
            <a:ext cx="243720" cy="407160"/>
          </a:xfrm>
          <a:prstGeom prst="straightConnector1">
            <a:avLst/>
          </a:prstGeom>
          <a:ln w="324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grpSp>
        <p:nvGrpSpPr>
          <p:cNvPr id="268" name=""/>
          <p:cNvGrpSpPr/>
          <p:nvPr/>
        </p:nvGrpSpPr>
        <p:grpSpPr>
          <a:xfrm>
            <a:off x="1311120" y="4109760"/>
            <a:ext cx="7186680" cy="920880"/>
            <a:chOff x="1311120" y="4109760"/>
            <a:chExt cx="7186680" cy="920880"/>
          </a:xfrm>
        </p:grpSpPr>
        <p:sp>
          <p:nvSpPr>
            <p:cNvPr id="269" name=""/>
            <p:cNvSpPr/>
            <p:nvPr/>
          </p:nvSpPr>
          <p:spPr>
            <a:xfrm>
              <a:off x="7496280" y="4402080"/>
              <a:ext cx="1001520" cy="593640"/>
            </a:xfrm>
            <a:prstGeom prst="ellipse">
              <a:avLst/>
            </a:prstGeom>
            <a:gradFill rotWithShape="0">
              <a:gsLst>
                <a:gs pos="0">
                  <a:srgbClr val="53fe46"/>
                </a:gs>
                <a:gs pos="100000">
                  <a:srgbClr val="fefefe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pec-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11120" y="4402080"/>
              <a:ext cx="1001880" cy="593640"/>
            </a:xfrm>
            <a:prstGeom prst="ellipse">
              <a:avLst/>
            </a:prstGeom>
            <a:gradFill rotWithShape="0">
              <a:gsLst>
                <a:gs pos="0">
                  <a:srgbClr val="53fe46"/>
                </a:gs>
                <a:gs pos="100000">
                  <a:srgbClr val="fefefe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voice of G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3" idx="4"/>
              <a:endCxn id="270" idx="0"/>
            </p:cNvCxnSpPr>
            <p:nvPr/>
          </p:nvCxnSpPr>
          <p:spPr>
            <a:xfrm>
              <a:off x="1812600" y="4109760"/>
              <a:ext cx="1080" cy="292680"/>
            </a:xfrm>
            <a:prstGeom prst="straightConnector1">
              <a:avLst/>
            </a:prstGeom>
            <a:ln w="324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4511520" y="4373640"/>
              <a:ext cx="1001880" cy="657000"/>
            </a:xfrm>
            <a:prstGeom prst="ellipse">
              <a:avLst/>
            </a:prstGeom>
            <a:gradFill rotWithShape="0">
              <a:gsLst>
                <a:gs pos="0">
                  <a:srgbClr val="53fe46"/>
                </a:gs>
                <a:gs pos="100000">
                  <a:srgbClr val="fefefe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rk: Herzog, Zim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" name=""/>
            <p:cNvCxnSpPr>
              <a:stCxn id="265" idx="4"/>
              <a:endCxn id="272" idx="0"/>
            </p:cNvCxnSpPr>
            <p:nvPr/>
          </p:nvCxnSpPr>
          <p:spPr>
            <a:xfrm>
              <a:off x="5011200" y="4135320"/>
              <a:ext cx="2520" cy="239040"/>
            </a:xfrm>
            <a:prstGeom prst="straightConnector1">
              <a:avLst/>
            </a:prstGeom>
            <a:ln w="324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70" idx="6"/>
              <a:endCxn id="272" idx="2"/>
            </p:cNvCxnSpPr>
            <p:nvPr/>
          </p:nvCxnSpPr>
          <p:spPr>
            <a:xfrm>
              <a:off x="2312640" y="4698720"/>
              <a:ext cx="2199240" cy="3960"/>
            </a:xfrm>
            <a:prstGeom prst="straightConnector1">
              <a:avLst/>
            </a:prstGeom>
            <a:ln w="324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511520" y="2512080"/>
            <a:ext cx="4257720" cy="3293280"/>
            <a:chOff x="4511520" y="2512080"/>
            <a:chExt cx="4257720" cy="3293280"/>
          </a:xfrm>
        </p:grpSpPr>
        <p:grpSp>
          <p:nvGrpSpPr>
            <p:cNvPr id="276" name=""/>
            <p:cNvGrpSpPr/>
            <p:nvPr/>
          </p:nvGrpSpPr>
          <p:grpSpPr>
            <a:xfrm>
              <a:off x="7245360" y="2512080"/>
              <a:ext cx="1523880" cy="307080"/>
              <a:chOff x="7245360" y="2512080"/>
              <a:chExt cx="1523880" cy="307080"/>
            </a:xfrm>
          </p:grpSpPr>
          <p:sp>
            <p:nvSpPr>
              <p:cNvPr id="277" name=""/>
              <p:cNvSpPr/>
              <p:nvPr/>
            </p:nvSpPr>
            <p:spPr>
              <a:xfrm>
                <a:off x="7245360" y="2769840"/>
                <a:ext cx="152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60840" y="2512080"/>
                <a:ext cx="105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stance-o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7496280" y="5072040"/>
              <a:ext cx="1001520" cy="593640"/>
            </a:xfrm>
            <a:prstGeom prst="ellipse">
              <a:avLst/>
            </a:prstGeom>
            <a:gradFill rotWithShape="0">
              <a:gsLst>
                <a:gs pos="0">
                  <a:srgbClr val="4583ff"/>
                </a:gs>
                <a:gs pos="100000">
                  <a:srgbClr val="fefefe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1520" y="5211720"/>
              <a:ext cx="1001880" cy="593640"/>
            </a:xfrm>
            <a:prstGeom prst="ellipse">
              <a:avLst/>
            </a:prstGeom>
            <a:gradFill rotWithShape="0">
              <a:gsLst>
                <a:gs pos="0">
                  <a:srgbClr val="4583ff"/>
                </a:gs>
                <a:gs pos="100000">
                  <a:srgbClr val="fefefe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rzo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72" idx="4"/>
              <a:endCxn id="280" idx="0"/>
            </p:cNvCxnSpPr>
            <p:nvPr/>
          </p:nvCxnSpPr>
          <p:spPr>
            <a:xfrm>
              <a:off x="5013000" y="5030280"/>
              <a:ext cx="1080" cy="1818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82" name=""/>
          <p:cNvSpPr/>
          <p:nvPr/>
        </p:nvSpPr>
        <p:spPr>
          <a:xfrm>
            <a:off x="3254400" y="1311120"/>
            <a:ext cx="1001520" cy="594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-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33560" y="1663560"/>
            <a:ext cx="1001880" cy="594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-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5280" y="1668600"/>
            <a:ext cx="1001520" cy="59364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efefe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p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3" idx="4"/>
            <a:endCxn id="247" idx="0"/>
          </p:cNvCxnSpPr>
          <p:nvPr/>
        </p:nvCxnSpPr>
        <p:spPr>
          <a:xfrm flipH="1">
            <a:off x="1812240" y="2257560"/>
            <a:ext cx="623160" cy="335520"/>
          </a:xfrm>
          <a:prstGeom prst="straightConnector1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286" name=""/>
          <p:cNvCxnSpPr>
            <a:stCxn id="284" idx="4"/>
            <a:endCxn id="247" idx="0"/>
          </p:cNvCxnSpPr>
          <p:nvPr/>
        </p:nvCxnSpPr>
        <p:spPr>
          <a:xfrm>
            <a:off x="1166400" y="2261880"/>
            <a:ext cx="646920" cy="330840"/>
          </a:xfrm>
          <a:prstGeom prst="straightConnector1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287" name=""/>
          <p:cNvCxnSpPr>
            <a:stCxn id="282" idx="4"/>
            <a:endCxn id="249" idx="0"/>
          </p:cNvCxnSpPr>
          <p:nvPr/>
        </p:nvCxnSpPr>
        <p:spPr>
          <a:xfrm flipH="1">
            <a:off x="3754080" y="1904760"/>
            <a:ext cx="2160" cy="205560"/>
          </a:xfrm>
          <a:prstGeom prst="straightConnector1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280" y="1407600"/>
            <a:ext cx="8778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system architecture for context-driven DAU results 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560" indent="-26856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aster system ru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e.g., reducing search space, extracting only requested data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560" indent="-26856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igher precision (e.g., by using background knowle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560" indent="-26856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lexible analysis tasks (given by the workflow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560" indent="0">
              <a:lnSpc>
                <a:spcPct val="13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reover,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560" indent="-26856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s domain and WfMS-vendor independen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e.g., generic document knowledge; context poo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560" indent="-26856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grates paper-based documents into workflow in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56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4040" y="105984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ATMENT OF 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128520"/>
            <a:ext cx="877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The usage of expectations has different impacts on specialists and can be accomplished in different ways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360360" y="1407960"/>
            <a:ext cx="8570880" cy="484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14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pectations restrict the range of possible values within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 range restrictions afte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range restrictions while collecting the information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ocument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) do 1), but use more generic concepts as we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nd give lower certainties to instances of conce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) ignore expecta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imulates the “ordinary” way of document analy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1T11:06:17Z</dcterms:created>
  <dc:creator>Wenzel, Maus</dc:creator>
  <dc:description/>
  <dc:language>en-US</dc:language>
  <cp:lastModifiedBy>maus</cp:lastModifiedBy>
  <cp:lastPrinted>1999-02-24T14:13:43Z</cp:lastPrinted>
  <dcterms:modified xsi:type="dcterms:W3CDTF">2000-12-08T15:05:37Z</dcterms:modified>
  <cp:revision>244</cp:revision>
  <dc:subject/>
  <dc:title>DAS 2000</dc:title>
</cp:coreProperties>
</file>